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DA6-C14A-45FC-8761-CBA2B502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2B8-1F6B-44F5-B7FC-76E6A3B2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407-5FDD-4DAE-913C-2C5EB66B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C6E-F1CC-4A3E-BA2E-3837441A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E38A-08EE-4206-BEC0-F160C825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543D-8FB0-4F97-92B2-D15EC07E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ABEC-ACE7-4AB6-B6A5-67F65DDD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C4BF-3A16-40C3-94B0-82D494DA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17AE-1331-4360-B049-4A9C4BBC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D558-7B0E-4570-8405-BCE21A94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0B27-2809-4CCF-AA58-5C15332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12C-D46D-49D6-B879-5BAF450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7E45-E5E0-404F-9904-DF21D46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86B2-929E-456C-BB59-F7E46A97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CB00-8421-41CA-B020-2F94E7CD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166B-399A-47FE-9A1D-84ED76F6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0056-4567-418F-812B-300D6B58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2DB-2639-4C5A-BF4E-DD0FE3CB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BD2-B5EE-4511-89D8-5F5F44C3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407-4DAB-430D-9753-A386B614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610-E238-49B0-9ED0-0969A47F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14F-469A-46D9-A0BE-108C154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3F0-CC06-49F8-B5D5-E8E124F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7B4-C2C8-49FC-A93A-2551C89F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CAFE-B57F-465F-9250-72078799BFF7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269A-61E5-43DA-917D-E016ABCEFF25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Equipamento de Proteção Individu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79584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7432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Principais EPIs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Protetor Facial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4000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76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33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76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384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481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48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47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752840" cy="2181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1771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Principais EPIs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Protetor Respiratório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000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76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33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76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384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481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8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147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1600200" cy="2514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480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86000" y="4495680"/>
            <a:ext cx="1828800" cy="1847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7208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1752480" cy="2133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68604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705720" y="4191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Principais EPIs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Óculo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000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6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33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76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384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481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48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147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80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7208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8604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1600200" cy="2495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6813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3276360" cy="1447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7861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400800" y="33526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Principais EPIs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Vestimenta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4000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76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33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76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384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481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48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147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480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7208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8604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813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861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652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124440" cy="2143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69576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248520" y="1828800"/>
            <a:ext cx="23619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egalidade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CLT – Consolidação das Leis de Trabalho / Capítulo V – da segurança e medicina do trabalho / Seção IV - do equipamento de proteção individual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Art.166 - A empresa é obrigada a fornecer aos empregados, gratuitamente, equipamento de proteção individual adequado ao risco e em perfeito estado de conservação e funcionamento, sempre que as medidas de ordem geral não ofereçam completa proteção contra os riscos de acidentes e danos à saúde dos empregado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egalidade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CLT – Consolidação das Leis de Trabalho / Capítulo V – da segurança e medicina do trabalho / Seção IV - do equipamento de proteção individual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Art.167 - O equipamento de proteção só poderá ser posto à venda ou utilizado com a indicação do Certificado de Aprovação do Ministério do Trabalho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omentário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bc03"/>
                </a:solidFill>
                <a:latin typeface="Arial Narrow"/>
              </a:rPr>
              <a:t>ANTE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Todo Dispositivo De Uso Individual Destinado a Proteger a Saúde e a Integridade Física do Trabalhado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bc03"/>
                </a:solidFill>
                <a:latin typeface="Arial Narrow"/>
              </a:rPr>
              <a:t>DEPOI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 Narrow"/>
                <a:ea typeface="Times New Roman"/>
              </a:rPr>
              <a:t>Todo dispositivo </a:t>
            </a:r>
            <a:r>
              <a:rPr b="1" lang="en-US" sz="2800" spc="-1" strike="noStrike">
                <a:solidFill>
                  <a:srgbClr val="fdbc03"/>
                </a:solidFill>
                <a:latin typeface="Arial Narrow"/>
                <a:ea typeface="Times New Roman"/>
              </a:rPr>
              <a:t>OU PRODUTO</a:t>
            </a:r>
            <a:r>
              <a:rPr b="1" lang="en-US" sz="2800" spc="-1" strike="noStrike">
                <a:solidFill>
                  <a:srgbClr val="6699ff"/>
                </a:solidFill>
                <a:latin typeface="Arial Narrow"/>
                <a:ea typeface="Times New Roman"/>
              </a:rPr>
              <a:t>, de uso individual utilizado pelo trabalhador, destinado à proteção de riscos susceptíveis de ameaçar a segurança e a saúde no trabalho</a:t>
            </a:r>
            <a:r>
              <a:rPr b="1" lang="en-US" sz="2800" spc="-1" strike="noStrike">
                <a:solidFill>
                  <a:srgbClr val="6699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bc03"/>
                </a:solidFill>
                <a:latin typeface="Arial Narrow"/>
              </a:rPr>
              <a:t>Ex: Creme protet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omentário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Extensão do Conceito: "Equipamento </a:t>
            </a:r>
            <a:r>
              <a:rPr b="1" lang="en-US" sz="3200" spc="-1" strike="noStrike">
                <a:solidFill>
                  <a:srgbClr val="6699ff"/>
                </a:solidFill>
                <a:latin typeface="Arial Narrow"/>
                <a:ea typeface="Times New Roman"/>
              </a:rPr>
              <a:t>Conjugado</a:t>
            </a: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de Proteção Individual", todo aquele composto por vários dispositivos, que o fabricante tenha associado contra um ou mais riscos que possam ocorrer simultaneamente e que sejam suscetíveis de ameaçar a segurança e a saúde no trabalh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bc03"/>
                </a:solidFill>
                <a:latin typeface="Arial Narrow"/>
                <a:ea typeface="Times New Roman"/>
              </a:rPr>
              <a:t>Ex: o capacete de segurança, ao qual está acoplado, o protetor auditivo, tipo conch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Inovações na Lista de EPI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Capacete, capuz (inovação)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Óculos,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Protetor facial, máscara de solda,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Protetor auditivo (antes incorretamente protetor auricular),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Respirador purificador de ar (inovação), respirador de adução de ar, respirador de fuga (inovação),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Vestimentas (inovação)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Luvas,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Inovações na Lista de EPI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Creme protetor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Manga  (inovação), braçadeira (inovação), dedeira (inovação)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Calçado, meia (inovação), perneira, calça (inovação),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Macacão (inovação), conjunto (inovação), vestimenta de corpo inteiro (inovação)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Dispositivo trava-quedas (inovação), cinturã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R 6 – Equipamento de Proteção Individu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De acordo com a NR-6 da Portaria nº 3214 de 8 de junho de 1978, do Ministério do Trabalho e Emprego, considera-se Equipamento de Proteção Individual – EPI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TODO DISPOSITIVO DE USO INDIVIDUAL DESTINADO A PROTEGER A SAÚDE E A INTEGRIDADE FÍSICA DO TRABALHADO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É responsabilidade do Empregador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Adquirir o adequado ao risco de cada atividade;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Exigir seu uso;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Fornecer ao trabalhador somente o aprovado pelo órgão nacional competente em matéria de segurança e saúde no trabalho;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Orientar e treinar o trabalhador sobre o uso adequado, guarda e conservação;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É responsabilidade do Empregador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Substituir imediatamente, quando danificado ou extraviado;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Responsabilizar-se pela higienização e manutenção periódica; e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Comunicar ao MTE qualquer irregularidade observada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É responsabilidade do Empregado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Usar, utilizando-o apenas para a finalidade a que se destina;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Responsabilizar-se pela guarda e conservação;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Comunicar ao empregador qualquer alteração que o torne impróprio para uso; e,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Cumprir as determinações do empregador sobre o uso adequado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Responsabilidade da DRTE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Fiscalizar e orientar quanto ao uso adequado e a qualidade do EPI;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Recolher amostras de EPI; e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Aplicar, na sua esfera de competência, as penalidades cabíveis pelo descumprimento da NR-6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Área da Saúde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Os profissionais devem evitar contato direto com matéria orgânica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O uso de barreiras protetoras é extremamente eficiente na redução do contato com sangue e secreções orgânic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Dessa forma, a utilização do equipamento de proteção individual torna-se obrigatória em determinados atendiment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Área da Saúde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1" name=""/>
          <p:cNvSpPr/>
          <p:nvPr/>
        </p:nvSpPr>
        <p:spPr>
          <a:xfrm>
            <a:off x="350028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16224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uva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Devem ser usadas para prevenir contato da pele das mãos com </a:t>
            </a:r>
            <a:r>
              <a:rPr b="1" lang="en-US" sz="3600" spc="-1" strike="noStrike">
                <a:solidFill>
                  <a:srgbClr val="6699ff"/>
                </a:solidFill>
                <a:latin typeface="Arial Narrow"/>
                <a:ea typeface="Times New Roman"/>
              </a:rPr>
              <a:t>sangue, secreções ou mucosas</a:t>
            </a:r>
            <a:r>
              <a:rPr b="1" lang="en-US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, durante a prestação de cuidados;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Para manipular instrumentos e superfícies.</a:t>
            </a: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uva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1 par de luvas exclusivo para cada paciente, descartando-as após o atendimento.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O mercado dispõe de diversos tipos de luvas para cada paciente, segundo as finalidades de uso: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uva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20" name=""/>
          <p:cNvSpPr/>
          <p:nvPr/>
        </p:nvSpPr>
        <p:spPr>
          <a:xfrm>
            <a:off x="338616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2971800" cy="2438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9337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095880" y="838080"/>
            <a:ext cx="2133720" cy="19814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2385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3733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uva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Luvas descartáveis de vinil ou látex para procedimentos: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As de vinil não oferecem boa adaptação, e servem para a realização de procedimentos como exame clínico, remoção de sutura; e como sobreluva; as de látex oferecem boa adaptação, e são usadas em procedimentos clínicos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Obrigatoriedade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empresa é obrigada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Fornecer aos empregados,  gratuitamente,  EPI adequado ao risco;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Em perfeito estado de conservação e funcionamento;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uva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Luvas cirúrgicas estéreis descartáveis: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Confeccionadas com látex de melhor qualidade, oferecem melhor adaptabilidade; seu uso é indicado em procedimentos cirúrgicos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uva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Luvas para limpeza geral: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São de borracha grossa, utilizadas para serviços de limpeza e descontaminação de instrumentos, equipamentos e superfícies;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São reutilizáveis, se não estiverem furadas ou rasgadas;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Devem ser descontaminadas após o uso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276720" y="5257800"/>
            <a:ext cx="2209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Máscara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A máscara deve ser escolhida de modo a permitir proteção adequada. Portanto, use apenas máscara de tripla proteção. E quando de atendimento de pacientes com infecção ativa, particularmente tuberculose, use máscaras especia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36" name=""/>
          <p:cNvSpPr/>
          <p:nvPr/>
        </p:nvSpPr>
        <p:spPr>
          <a:xfrm>
            <a:off x="38527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434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3124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tores Oculare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Têm por finalidade proteger a mucosa ocular de contaminações e acidente ocupaciona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Os protetores oculares mais indicados possuem vedação periférica e melhor adaptação ao rosto. Os óculos comuns não oferecem proteção adequada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>
            <a:off x="38289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733920" y="5181480"/>
            <a:ext cx="1904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tores Oculares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Após o uso, os protetores oculares devem ser descontaminado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Se possível,os protetores oculares também devem ser fornecidos aos pacientes, pois alguns procedimentos constitui riscos de contaminação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Na falta de protetores, uma alternativa é recomendar que o paciente permaneça com seus olhos fechad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vental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O avental deve ser usado sempre. A roupa branca (uniforme) não o substitui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Não use as roupas comuns durante o atendimento, pois elas ficarão contaminadas, tornando-se fontes de infecção para o profissional, sua equipe e seus familiare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O avental deve ter colarinho alto e mangas longas, podendo ser de pano ou descartáve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orro: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Proporciona uma barreira efetiva para o profissional, sua equipe e paciente.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Protege contra gotículas de saliva, aerossóis e sangue contaminados. (Dentista)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Obrigatoriedade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Nas seguintes circunstância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Sempre que as medidas de proteção coletiva forem tecnicamente inviáveis ou não oferecerem completa proteção contra os riscos de acidentes do trabalho e/ou de doenças profissionais e do trabalho;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Enquanto as medidas de proteção coletiva estiverem sendo implantadas;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Para atender as situações de emergênc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Principais EPIs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Calçados de Segurança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4000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57600" y="2933640"/>
            <a:ext cx="1752480" cy="1866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20764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Principais EPIs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Luvas de Segurança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76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1847880" cy="1828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33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848720" y="2743200"/>
            <a:ext cx="99036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76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867280" y="2895480"/>
            <a:ext cx="1524240" cy="1905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384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124080" y="3124080"/>
            <a:ext cx="2067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Principais EPIs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Cintos de Segurança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4000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76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76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384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259092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481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33920" y="2666880"/>
            <a:ext cx="1904760" cy="251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48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95880" y="297180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Principais EPIs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Capacete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4000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76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33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76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384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481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48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2209680" cy="1752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9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dbc03"/>
                </a:solidFill>
                <a:latin typeface="Impact"/>
              </a:rPr>
              <a:t>Principais EPIs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Protetor Auricular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4000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33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6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84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81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8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9088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1752480" cy="1524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86000" y="4343400"/>
            <a:ext cx="1981080" cy="1600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528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2819520"/>
            <a:ext cx="1914480" cy="1785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6147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858000" y="4267080"/>
            <a:ext cx="1914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01:22Z</dcterms:created>
  <dc:creator>CES - IV</dc:creator>
  <dc:description/>
  <dc:language>en-US</dc:language>
  <cp:lastModifiedBy>CES - IV</cp:lastModifiedBy>
  <dcterms:modified xsi:type="dcterms:W3CDTF">2002-11-19T10:00:35Z</dcterms:modified>
  <cp:revision>6</cp:revision>
  <dc:subject/>
  <dc:title>Equipamento de Proteção Individual</dc:title>
</cp:coreProperties>
</file>