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wmf" ContentType="image/x-wmf"/>
  <Override PartName="/ppt/media/image2.png" ContentType="image/png"/>
  <Override PartName="/ppt/media/image9.gif" ContentType="image/gif"/>
  <Override PartName="/ppt/media/image7.png" ContentType="image/png"/>
  <Override PartName="/ppt/media/image4.gif" ContentType="image/gif"/>
  <Override PartName="/ppt/media/image20.wmf" ContentType="image/x-wmf"/>
  <Override PartName="/ppt/media/image13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5.gif" ContentType="image/gif"/>
  <Override PartName="/ppt/media/image16.jpeg" ContentType="image/jpeg"/>
  <Override PartName="/ppt/media/image1.png" ContentType="image/png"/>
  <Override PartName="/ppt/media/image3.wmf" ContentType="image/x-wmf"/>
  <Override PartName="/ppt/media/image15.jpeg" ContentType="image/jpeg"/>
  <Override PartName="/ppt/media/image11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A67E-3433-4A1E-9224-A99F3330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3E1D9-468A-47EB-AF07-2EDA619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3175-635D-490D-B52D-3FA60222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87849-79DA-4D60-BFD3-413C90F0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29CB-2A17-4983-90EA-AC790E23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0505-7816-415C-B29B-B513675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EFAE-ACF2-448E-8DB9-09E73DBA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ADCF-7FFB-4A75-9A1D-9D394F22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AED1-A08E-426B-9C65-0383D0E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B2CA-03AC-40B8-8E64-2964D474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7560-C81F-46AA-8555-4BDBF26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7881-8499-40D0-AD04-FCB0830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090-9A40-449B-9162-D6B989DF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9AFA-D301-4D9E-8BB8-CC6CA0CB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DDD4-9FE6-4F49-AF92-EBA11260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D184-B660-4F75-B7F7-F3FCEF41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6984-6FB8-49F5-BD8F-FD72E9B7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8DB45-3CA7-41DA-A1A4-162C524B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7D37-2CDF-427F-8674-5637389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4092-3B59-49F5-BD1C-EC5B0359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BAAE-8AFC-4154-B5C7-9AB7A0F6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978E-C8B8-48A5-980F-9E3171B8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3D3B-88B3-4977-A570-FC4782D6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C690-D197-485C-A618-00A9EAE9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98DB-F80F-4FBD-9E57-E7DB05765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dt" idx="3"/>
          </p:nvPr>
        </p:nvSpPr>
        <p:spPr>
          <a:xfrm>
            <a:off x="4571640" y="3885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produt19" descr=""/>
          <p:cNvPicPr/>
          <p:nvPr/>
        </p:nvPicPr>
        <p:blipFill>
          <a:blip r:embed="rId2"/>
          <a:stretch/>
        </p:blipFill>
        <p:spPr>
          <a:xfrm>
            <a:off x="2800440" y="76320"/>
            <a:ext cx="3504960" cy="3920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rcRect l="13772" t="63507" r="16562" b="19530"/>
          <a:stretch/>
        </p:blipFill>
        <p:spPr>
          <a:xfrm>
            <a:off x="0" y="6324480"/>
            <a:ext cx="4572000" cy="533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rcRect l="13772" t="63507" r="16562" b="19530"/>
          <a:stretch/>
        </p:blipFill>
        <p:spPr>
          <a:xfrm>
            <a:off x="4572000" y="6324480"/>
            <a:ext cx="4572000" cy="53352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66570" b="5000"/>
          <a:stretch/>
        </p:blipFill>
        <p:spPr>
          <a:xfrm>
            <a:off x="8229600" y="76320"/>
            <a:ext cx="914400" cy="4343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3120" y="3583080"/>
            <a:ext cx="576360" cy="641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16120" y="1690560"/>
            <a:ext cx="574560" cy="6429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1320" y="1066680"/>
            <a:ext cx="585720" cy="6350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3583080"/>
            <a:ext cx="583920" cy="6411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1320" y="1690560"/>
            <a:ext cx="585720" cy="6429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1560" y="2324160"/>
            <a:ext cx="583920" cy="6332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16120" y="2324160"/>
            <a:ext cx="574560" cy="633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3120" y="2948040"/>
            <a:ext cx="576360" cy="64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1560" y="2948040"/>
            <a:ext cx="583920" cy="64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9282-C3E9-4AE7-8EF2-C2AC48029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2320" y="144792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ahoma"/>
              </a:rPr>
              <a:t>MANUSEIO 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img1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6858000" cy="1776600"/>
          </a:xfrm>
          <a:prstGeom prst="rect">
            <a:avLst/>
          </a:prstGeom>
          <a:ln w="0">
            <a:noFill/>
          </a:ln>
        </p:spPr>
      </p:pic>
      <p:pic>
        <p:nvPicPr>
          <p:cNvPr id="110" name="img3" descr=""/>
          <p:cNvPicPr/>
          <p:nvPr/>
        </p:nvPicPr>
        <p:blipFill>
          <a:blip r:embed="rId2"/>
          <a:stretch/>
        </p:blipFill>
        <p:spPr>
          <a:xfrm>
            <a:off x="3695760" y="4305240"/>
            <a:ext cx="1766880" cy="2286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304920"/>
            <a:ext cx="23623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OGO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95360" y="10666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3 - Líquidos Inflamá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misturas de líquidos, ou líqu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endo sólidos em solução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suspensão que produz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pores inflamáveis; Ex: gasol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tileno, s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276720"/>
            <a:ext cx="8172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4 - Sólidos Inflamá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tancias que em contato 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água, emitem gases inflamá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tancias sujeitas a  combu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ontâ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tancia que em contato com á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item gases inflam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457200"/>
            <a:ext cx="3200400" cy="2895480"/>
            <a:chOff x="5791320" y="457200"/>
            <a:chExt cx="3200400" cy="2895480"/>
          </a:xfrm>
        </p:grpSpPr>
        <p:sp>
          <p:nvSpPr>
            <p:cNvPr id="138" name=""/>
            <p:cNvSpPr/>
            <p:nvPr/>
          </p:nvSpPr>
          <p:spPr>
            <a:xfrm>
              <a:off x="5791320" y="457200"/>
              <a:ext cx="3200400" cy="2895480"/>
            </a:xfrm>
            <a:prstGeom prst="diamond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61960" y="611640"/>
              <a:ext cx="2858040" cy="2586240"/>
            </a:xfrm>
            <a:prstGeom prst="diamond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6681240" y="885240"/>
              <a:ext cx="1543320" cy="932400"/>
              <a:chOff x="6681240" y="885240"/>
              <a:chExt cx="1543320" cy="932400"/>
            </a:xfrm>
          </p:grpSpPr>
          <p:sp>
            <p:nvSpPr>
              <p:cNvPr id="141" name=""/>
              <p:cNvSpPr/>
              <p:nvPr/>
            </p:nvSpPr>
            <p:spPr>
              <a:xfrm>
                <a:off x="6840360" y="885240"/>
                <a:ext cx="1065600" cy="932400"/>
              </a:xfrm>
              <a:custGeom>
                <a:avLst/>
                <a:gdLst/>
                <a:ahLst/>
                <a:rect l="l" t="t" r="r" b="b"/>
                <a:pathLst>
                  <a:path w="1044" h="1009">
                    <a:moveTo>
                      <a:pt x="306" y="1008"/>
                    </a:moveTo>
                    <a:lnTo>
                      <a:pt x="122" y="864"/>
                    </a:lnTo>
                    <a:lnTo>
                      <a:pt x="0" y="672"/>
                    </a:lnTo>
                    <a:lnTo>
                      <a:pt x="184" y="768"/>
                    </a:lnTo>
                    <a:lnTo>
                      <a:pt x="61" y="480"/>
                    </a:lnTo>
                    <a:lnTo>
                      <a:pt x="245" y="624"/>
                    </a:lnTo>
                    <a:lnTo>
                      <a:pt x="184" y="288"/>
                    </a:lnTo>
                    <a:lnTo>
                      <a:pt x="368" y="432"/>
                    </a:lnTo>
                    <a:lnTo>
                      <a:pt x="552" y="0"/>
                    </a:lnTo>
                    <a:lnTo>
                      <a:pt x="613" y="432"/>
                    </a:lnTo>
                    <a:lnTo>
                      <a:pt x="736" y="288"/>
                    </a:lnTo>
                    <a:lnTo>
                      <a:pt x="736" y="528"/>
                    </a:lnTo>
                    <a:lnTo>
                      <a:pt x="920" y="432"/>
                    </a:lnTo>
                    <a:lnTo>
                      <a:pt x="797" y="672"/>
                    </a:lnTo>
                    <a:lnTo>
                      <a:pt x="1043" y="576"/>
                    </a:lnTo>
                    <a:lnTo>
                      <a:pt x="797" y="1008"/>
                    </a:lnTo>
                    <a:lnTo>
                      <a:pt x="306" y="100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06760" y="1417320"/>
                <a:ext cx="532800" cy="399960"/>
              </a:xfrm>
              <a:custGeom>
                <a:avLst/>
                <a:gdLst/>
                <a:ahLst/>
                <a:rect l="l" t="t" r="r" b="b"/>
                <a:pathLst>
                  <a:path w="522" h="433">
                    <a:moveTo>
                      <a:pt x="190" y="432"/>
                    </a:moveTo>
                    <a:lnTo>
                      <a:pt x="107" y="377"/>
                    </a:lnTo>
                    <a:lnTo>
                      <a:pt x="0" y="288"/>
                    </a:lnTo>
                    <a:lnTo>
                      <a:pt x="134" y="340"/>
                    </a:lnTo>
                    <a:lnTo>
                      <a:pt x="52" y="192"/>
                    </a:lnTo>
                    <a:lnTo>
                      <a:pt x="162" y="285"/>
                    </a:lnTo>
                    <a:lnTo>
                      <a:pt x="104" y="96"/>
                    </a:lnTo>
                    <a:lnTo>
                      <a:pt x="217" y="212"/>
                    </a:lnTo>
                    <a:lnTo>
                      <a:pt x="260" y="0"/>
                    </a:lnTo>
                    <a:lnTo>
                      <a:pt x="327" y="212"/>
                    </a:lnTo>
                    <a:lnTo>
                      <a:pt x="364" y="96"/>
                    </a:lnTo>
                    <a:lnTo>
                      <a:pt x="383" y="249"/>
                    </a:lnTo>
                    <a:lnTo>
                      <a:pt x="468" y="144"/>
                    </a:lnTo>
                    <a:lnTo>
                      <a:pt x="410" y="304"/>
                    </a:lnTo>
                    <a:lnTo>
                      <a:pt x="521" y="267"/>
                    </a:lnTo>
                    <a:lnTo>
                      <a:pt x="410" y="432"/>
                    </a:lnTo>
                    <a:lnTo>
                      <a:pt x="190" y="43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81240" y="1816560"/>
                <a:ext cx="15433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6795000" y="1905120"/>
            <a:ext cx="126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Impact"/>
              </a:rPr>
              <a:t>LÍQ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13280" y="1981080"/>
            <a:ext cx="241632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76212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Impact"/>
              </a:rPr>
              <a:t>INFLAM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352680"/>
            <a:ext cx="2895840" cy="2946600"/>
          </a:xfrm>
          <a:prstGeom prst="diamond">
            <a:avLst/>
          </a:prstGeom>
          <a:solidFill>
            <a:srgbClr val="ffffff"/>
          </a:solidFill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22800" y="3510000"/>
            <a:ext cx="2584800" cy="2631960"/>
          </a:xfrm>
          <a:prstGeom prst="diamond">
            <a:avLst/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99280" y="4424400"/>
            <a:ext cx="169920" cy="80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4960" y="4017960"/>
            <a:ext cx="169560" cy="157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08840" y="3701880"/>
            <a:ext cx="169920" cy="22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07360" y="3657600"/>
            <a:ext cx="169920" cy="233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4062240"/>
            <a:ext cx="169560" cy="157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16600" y="3789360"/>
            <a:ext cx="963720" cy="947880"/>
          </a:xfrm>
          <a:custGeom>
            <a:avLst/>
            <a:gdLst/>
            <a:ahLst/>
            <a:rect l="l" t="t" r="r" b="b"/>
            <a:pathLst>
              <a:path w="1044" h="1009">
                <a:moveTo>
                  <a:pt x="306" y="1008"/>
                </a:moveTo>
                <a:lnTo>
                  <a:pt x="122" y="864"/>
                </a:lnTo>
                <a:lnTo>
                  <a:pt x="0" y="672"/>
                </a:lnTo>
                <a:lnTo>
                  <a:pt x="184" y="768"/>
                </a:lnTo>
                <a:lnTo>
                  <a:pt x="61" y="480"/>
                </a:lnTo>
                <a:lnTo>
                  <a:pt x="245" y="624"/>
                </a:lnTo>
                <a:lnTo>
                  <a:pt x="184" y="288"/>
                </a:lnTo>
                <a:lnTo>
                  <a:pt x="368" y="432"/>
                </a:lnTo>
                <a:lnTo>
                  <a:pt x="552" y="0"/>
                </a:lnTo>
                <a:lnTo>
                  <a:pt x="613" y="432"/>
                </a:lnTo>
                <a:lnTo>
                  <a:pt x="736" y="288"/>
                </a:lnTo>
                <a:lnTo>
                  <a:pt x="736" y="528"/>
                </a:lnTo>
                <a:lnTo>
                  <a:pt x="920" y="432"/>
                </a:lnTo>
                <a:lnTo>
                  <a:pt x="797" y="672"/>
                </a:lnTo>
                <a:lnTo>
                  <a:pt x="1043" y="576"/>
                </a:lnTo>
                <a:lnTo>
                  <a:pt x="797" y="1008"/>
                </a:lnTo>
                <a:lnTo>
                  <a:pt x="306" y="100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58160" y="4330800"/>
            <a:ext cx="480960" cy="406440"/>
          </a:xfrm>
          <a:custGeom>
            <a:avLst/>
            <a:gdLst/>
            <a:ahLst/>
            <a:rect l="l" t="t" r="r" b="b"/>
            <a:pathLst>
              <a:path w="522" h="433">
                <a:moveTo>
                  <a:pt x="190" y="432"/>
                </a:moveTo>
                <a:lnTo>
                  <a:pt x="107" y="377"/>
                </a:lnTo>
                <a:lnTo>
                  <a:pt x="0" y="288"/>
                </a:lnTo>
                <a:lnTo>
                  <a:pt x="134" y="340"/>
                </a:lnTo>
                <a:lnTo>
                  <a:pt x="52" y="192"/>
                </a:lnTo>
                <a:lnTo>
                  <a:pt x="162" y="285"/>
                </a:lnTo>
                <a:lnTo>
                  <a:pt x="104" y="96"/>
                </a:lnTo>
                <a:lnTo>
                  <a:pt x="217" y="212"/>
                </a:lnTo>
                <a:lnTo>
                  <a:pt x="260" y="0"/>
                </a:lnTo>
                <a:lnTo>
                  <a:pt x="327" y="212"/>
                </a:lnTo>
                <a:lnTo>
                  <a:pt x="364" y="96"/>
                </a:lnTo>
                <a:lnTo>
                  <a:pt x="383" y="249"/>
                </a:lnTo>
                <a:lnTo>
                  <a:pt x="468" y="144"/>
                </a:lnTo>
                <a:lnTo>
                  <a:pt x="410" y="304"/>
                </a:lnTo>
                <a:lnTo>
                  <a:pt x="521" y="267"/>
                </a:lnTo>
                <a:lnTo>
                  <a:pt x="410" y="432"/>
                </a:lnTo>
                <a:lnTo>
                  <a:pt x="190" y="43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72240" y="4735440"/>
            <a:ext cx="1397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0560" y="4826160"/>
            <a:ext cx="1128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Impact"/>
              </a:rPr>
              <a:t>SÓ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05840" y="4446720"/>
            <a:ext cx="169920" cy="75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648320"/>
            <a:ext cx="19936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4" marL="76212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Impact"/>
              </a:rPr>
              <a:t>INFLAM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315200" y="4825800"/>
            <a:ext cx="1285920" cy="130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29280" y="4826160"/>
            <a:ext cx="1285920" cy="1307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029280" y="3517920"/>
            <a:ext cx="1285920" cy="1308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315200" y="3517920"/>
            <a:ext cx="1285920" cy="1308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990720"/>
            <a:ext cx="853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5 - Substancias oxidante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óxidos Orgân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ubstancias Oxidant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 embora, não sen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necessariamente um combustível pode liber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xigênio e causar combustã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Peróxido Orgânico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 esses produto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ontem oxigênio e se comportam como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oxidante perigos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962520"/>
            <a:ext cx="8534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6 - Substancias tóxicas e infec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ubstancias tóxica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podem levar a morte se ingeridas, bebidas ou entrar em contato com a pele.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mercúrio, </a:t>
            </a:r>
            <a:r>
              <a:rPr b="1" i="1" lang="pt-BR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Cloro, amônia, defensivos agrícol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 u="sng">
                <a:solidFill>
                  <a:srgbClr val="000000"/>
                </a:solidFill>
                <a:uFillTx/>
                <a:latin typeface="Arial"/>
              </a:rPr>
              <a:t>Substancias Infectantes</a:t>
            </a: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 - contém microorganismo que provocam doenças aos seres humanos e animais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53120" y="647640"/>
            <a:ext cx="3048120" cy="2946600"/>
            <a:chOff x="6153120" y="647640"/>
            <a:chExt cx="3048120" cy="2946600"/>
          </a:xfrm>
        </p:grpSpPr>
        <p:sp>
          <p:nvSpPr>
            <p:cNvPr id="166" name=""/>
            <p:cNvSpPr/>
            <p:nvPr/>
          </p:nvSpPr>
          <p:spPr>
            <a:xfrm>
              <a:off x="6153120" y="647640"/>
              <a:ext cx="3048120" cy="2946600"/>
            </a:xfrm>
            <a:prstGeom prst="diamond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316200" y="805320"/>
              <a:ext cx="2721960" cy="2630880"/>
              <a:chOff x="6316200" y="805320"/>
              <a:chExt cx="2721960" cy="26308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16200" y="805320"/>
                <a:ext cx="2721960" cy="2630880"/>
              </a:xfrm>
              <a:prstGeom prst="diamond">
                <a:avLst/>
              </a:prstGeom>
              <a:solidFill>
                <a:srgbClr val="ffff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977160" y="1128240"/>
                <a:ext cx="1399680" cy="992160"/>
                <a:chOff x="6977160" y="1128240"/>
                <a:chExt cx="1399680" cy="992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202520" y="1128240"/>
                  <a:ext cx="903960" cy="906480"/>
                </a:xfrm>
                <a:custGeom>
                  <a:avLst/>
                  <a:gdLst/>
                  <a:ahLst/>
                  <a:rect l="l" t="t" r="r" b="b"/>
                  <a:pathLst>
                    <a:path w="930" h="965">
                      <a:moveTo>
                        <a:pt x="273" y="964"/>
                      </a:moveTo>
                      <a:lnTo>
                        <a:pt x="109" y="826"/>
                      </a:lnTo>
                      <a:lnTo>
                        <a:pt x="0" y="642"/>
                      </a:lnTo>
                      <a:lnTo>
                        <a:pt x="163" y="734"/>
                      </a:lnTo>
                      <a:lnTo>
                        <a:pt x="54" y="459"/>
                      </a:lnTo>
                      <a:lnTo>
                        <a:pt x="218" y="596"/>
                      </a:lnTo>
                      <a:lnTo>
                        <a:pt x="163" y="275"/>
                      </a:lnTo>
                      <a:lnTo>
                        <a:pt x="327" y="413"/>
                      </a:lnTo>
                      <a:lnTo>
                        <a:pt x="491" y="0"/>
                      </a:lnTo>
                      <a:lnTo>
                        <a:pt x="546" y="413"/>
                      </a:lnTo>
                      <a:lnTo>
                        <a:pt x="655" y="275"/>
                      </a:lnTo>
                      <a:lnTo>
                        <a:pt x="655" y="504"/>
                      </a:lnTo>
                      <a:lnTo>
                        <a:pt x="819" y="413"/>
                      </a:lnTo>
                      <a:lnTo>
                        <a:pt x="710" y="642"/>
                      </a:lnTo>
                      <a:lnTo>
                        <a:pt x="929" y="550"/>
                      </a:lnTo>
                      <a:lnTo>
                        <a:pt x="710" y="964"/>
                      </a:lnTo>
                      <a:lnTo>
                        <a:pt x="273" y="9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567920" y="1865880"/>
                  <a:ext cx="217440" cy="207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28960" y="1645920"/>
                  <a:ext cx="496440" cy="432000"/>
                </a:xfrm>
                <a:custGeom>
                  <a:avLst/>
                  <a:gdLst/>
                  <a:ahLst/>
                  <a:rect l="l" t="t" r="r" b="b"/>
                  <a:pathLst>
                    <a:path w="511" h="460">
                      <a:moveTo>
                        <a:pt x="169" y="459"/>
                      </a:moveTo>
                      <a:lnTo>
                        <a:pt x="46" y="459"/>
                      </a:lnTo>
                      <a:lnTo>
                        <a:pt x="0" y="275"/>
                      </a:lnTo>
                      <a:lnTo>
                        <a:pt x="92" y="321"/>
                      </a:lnTo>
                      <a:lnTo>
                        <a:pt x="0" y="183"/>
                      </a:lnTo>
                      <a:lnTo>
                        <a:pt x="138" y="275"/>
                      </a:lnTo>
                      <a:lnTo>
                        <a:pt x="46" y="91"/>
                      </a:lnTo>
                      <a:lnTo>
                        <a:pt x="185" y="183"/>
                      </a:lnTo>
                      <a:lnTo>
                        <a:pt x="185" y="0"/>
                      </a:lnTo>
                      <a:lnTo>
                        <a:pt x="277" y="183"/>
                      </a:lnTo>
                      <a:lnTo>
                        <a:pt x="324" y="45"/>
                      </a:lnTo>
                      <a:lnTo>
                        <a:pt x="371" y="229"/>
                      </a:lnTo>
                      <a:lnTo>
                        <a:pt x="416" y="183"/>
                      </a:lnTo>
                      <a:lnTo>
                        <a:pt x="416" y="321"/>
                      </a:lnTo>
                      <a:lnTo>
                        <a:pt x="510" y="275"/>
                      </a:lnTo>
                      <a:lnTo>
                        <a:pt x="463" y="459"/>
                      </a:lnTo>
                      <a:lnTo>
                        <a:pt x="169" y="459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534080" y="1877040"/>
                  <a:ext cx="239760" cy="227880"/>
                </a:xfrm>
                <a:prstGeom prst="ellipse">
                  <a:avLst/>
                </a:prstGeom>
                <a:solidFill>
                  <a:srgbClr val="ffff00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977160" y="2120400"/>
                  <a:ext cx="13996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6914880" y="2302200"/>
                <a:ext cx="1692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Impact"/>
                  </a:rPr>
                  <a:t>OXIDANT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15800" y="533520"/>
            <a:ext cx="8347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lasse 7 - Radioativ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efeito de transporte e qualquer material cuja 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 seja superior a 70 KBq/ K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q usado para quantificar a radiação e os efe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que ela causa na maté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438280"/>
            <a:ext cx="834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8 - Corros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aqueles que podem causar d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veros, quando em contato com tec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vos, apresentam também outros ris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Ácido sulfúrico, ácido nítric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4572000"/>
            <a:ext cx="81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9 - Substancias perigosas diver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luem-se nesta classe as substancias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tigos que durante o transporte apresen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isco não abrangido pelas outras clas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934320" y="2006640"/>
            <a:ext cx="2108160" cy="2108160"/>
            <a:chOff x="6934320" y="2006640"/>
            <a:chExt cx="2108160" cy="2108160"/>
          </a:xfrm>
        </p:grpSpPr>
        <p:sp>
          <p:nvSpPr>
            <p:cNvPr id="180" name=""/>
            <p:cNvSpPr/>
            <p:nvPr/>
          </p:nvSpPr>
          <p:spPr>
            <a:xfrm>
              <a:off x="6934320" y="2006640"/>
              <a:ext cx="2108160" cy="2108160"/>
            </a:xfrm>
            <a:prstGeom prst="diamond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7000" y="2119320"/>
              <a:ext cx="1882440" cy="1882080"/>
            </a:xfrm>
            <a:prstGeom prst="diamond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0800000">
              <a:off x="7054920" y="3063240"/>
              <a:ext cx="1866240" cy="930240"/>
            </a:xfrm>
            <a:prstGeom prst="triangle">
              <a:avLst>
                <a:gd name="adj" fmla="val 4999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84800" y="3060720"/>
              <a:ext cx="1839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03400" y="3189240"/>
              <a:ext cx="12016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400" spc="-1" strike="noStrike">
                  <a:solidFill>
                    <a:srgbClr val="ffffff"/>
                  </a:solidFill>
                  <a:latin typeface="Impact"/>
                </a:rPr>
                <a:t>CORROSIV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9280" y="3318120"/>
              <a:ext cx="7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450560" y="2576520"/>
              <a:ext cx="957960" cy="355320"/>
              <a:chOff x="7450560" y="2576520"/>
              <a:chExt cx="957960" cy="3553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7597800" y="2576520"/>
                <a:ext cx="737280" cy="124920"/>
                <a:chOff x="7597800" y="2576520"/>
                <a:chExt cx="737280" cy="12492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7990200" y="2576520"/>
                  <a:ext cx="344880" cy="124920"/>
                  <a:chOff x="7990200" y="2576520"/>
                  <a:chExt cx="344880" cy="12492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7990200" y="2576520"/>
                    <a:ext cx="34488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86">
                        <a:moveTo>
                          <a:pt x="512" y="52"/>
                        </a:moveTo>
                        <a:lnTo>
                          <a:pt x="489" y="185"/>
                        </a:lnTo>
                        <a:lnTo>
                          <a:pt x="473" y="182"/>
                        </a:lnTo>
                        <a:lnTo>
                          <a:pt x="475" y="169"/>
                        </a:lnTo>
                        <a:lnTo>
                          <a:pt x="404" y="158"/>
                        </a:lnTo>
                        <a:lnTo>
                          <a:pt x="54" y="107"/>
                        </a:lnTo>
                        <a:lnTo>
                          <a:pt x="45" y="105"/>
                        </a:lnTo>
                        <a:lnTo>
                          <a:pt x="39" y="103"/>
                        </a:lnTo>
                        <a:lnTo>
                          <a:pt x="35" y="102"/>
                        </a:lnTo>
                        <a:lnTo>
                          <a:pt x="31" y="100"/>
                        </a:lnTo>
                        <a:lnTo>
                          <a:pt x="27" y="97"/>
                        </a:lnTo>
                        <a:lnTo>
                          <a:pt x="22" y="94"/>
                        </a:lnTo>
                        <a:lnTo>
                          <a:pt x="17" y="90"/>
                        </a:lnTo>
                        <a:lnTo>
                          <a:pt x="14" y="87"/>
                        </a:lnTo>
                        <a:lnTo>
                          <a:pt x="10" y="82"/>
                        </a:lnTo>
                        <a:lnTo>
                          <a:pt x="7" y="79"/>
                        </a:lnTo>
                        <a:lnTo>
                          <a:pt x="5" y="75"/>
                        </a:lnTo>
                        <a:lnTo>
                          <a:pt x="4" y="73"/>
                        </a:lnTo>
                        <a:lnTo>
                          <a:pt x="2" y="69"/>
                        </a:lnTo>
                        <a:lnTo>
                          <a:pt x="1" y="64"/>
                        </a:lnTo>
                        <a:lnTo>
                          <a:pt x="0" y="60"/>
                        </a:lnTo>
                        <a:lnTo>
                          <a:pt x="0" y="56"/>
                        </a:lnTo>
                        <a:lnTo>
                          <a:pt x="0" y="52"/>
                        </a:lnTo>
                        <a:lnTo>
                          <a:pt x="0" y="48"/>
                        </a:lnTo>
                        <a:lnTo>
                          <a:pt x="0" y="45"/>
                        </a:lnTo>
                        <a:lnTo>
                          <a:pt x="1" y="41"/>
                        </a:lnTo>
                        <a:lnTo>
                          <a:pt x="2" y="36"/>
                        </a:lnTo>
                        <a:lnTo>
                          <a:pt x="4" y="33"/>
                        </a:lnTo>
                        <a:lnTo>
                          <a:pt x="6" y="30"/>
                        </a:lnTo>
                        <a:lnTo>
                          <a:pt x="8" y="26"/>
                        </a:lnTo>
                        <a:lnTo>
                          <a:pt x="11" y="23"/>
                        </a:lnTo>
                        <a:lnTo>
                          <a:pt x="14" y="19"/>
                        </a:lnTo>
                        <a:lnTo>
                          <a:pt x="17" y="16"/>
                        </a:lnTo>
                        <a:lnTo>
                          <a:pt x="21" y="14"/>
                        </a:lnTo>
                        <a:lnTo>
                          <a:pt x="23" y="11"/>
                        </a:lnTo>
                        <a:lnTo>
                          <a:pt x="27" y="9"/>
                        </a:lnTo>
                        <a:lnTo>
                          <a:pt x="31" y="6"/>
                        </a:lnTo>
                        <a:lnTo>
                          <a:pt x="36" y="4"/>
                        </a:lnTo>
                        <a:lnTo>
                          <a:pt x="39" y="3"/>
                        </a:lnTo>
                        <a:lnTo>
                          <a:pt x="44" y="1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7" y="0"/>
                        </a:lnTo>
                        <a:lnTo>
                          <a:pt x="62" y="0"/>
                        </a:lnTo>
                        <a:lnTo>
                          <a:pt x="67" y="0"/>
                        </a:lnTo>
                        <a:lnTo>
                          <a:pt x="72" y="1"/>
                        </a:lnTo>
                        <a:lnTo>
                          <a:pt x="422" y="53"/>
                        </a:lnTo>
                        <a:lnTo>
                          <a:pt x="493" y="63"/>
                        </a:lnTo>
                        <a:lnTo>
                          <a:pt x="495" y="50"/>
                        </a:lnTo>
                        <a:lnTo>
                          <a:pt x="512" y="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7990200" y="2581200"/>
                    <a:ext cx="2844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153">
                        <a:moveTo>
                          <a:pt x="404" y="152"/>
                        </a:moveTo>
                        <a:lnTo>
                          <a:pt x="54" y="102"/>
                        </a:lnTo>
                        <a:lnTo>
                          <a:pt x="45" y="101"/>
                        </a:lnTo>
                        <a:lnTo>
                          <a:pt x="39" y="99"/>
                        </a:lnTo>
                        <a:lnTo>
                          <a:pt x="35" y="98"/>
                        </a:lnTo>
                        <a:lnTo>
                          <a:pt x="31" y="96"/>
                        </a:lnTo>
                        <a:lnTo>
                          <a:pt x="27" y="93"/>
                        </a:lnTo>
                        <a:lnTo>
                          <a:pt x="22" y="90"/>
                        </a:lnTo>
                        <a:lnTo>
                          <a:pt x="17" y="86"/>
                        </a:lnTo>
                        <a:lnTo>
                          <a:pt x="14" y="83"/>
                        </a:lnTo>
                        <a:lnTo>
                          <a:pt x="10" y="79"/>
                        </a:lnTo>
                        <a:lnTo>
                          <a:pt x="7" y="75"/>
                        </a:lnTo>
                        <a:lnTo>
                          <a:pt x="5" y="72"/>
                        </a:lnTo>
                        <a:lnTo>
                          <a:pt x="4" y="69"/>
                        </a:lnTo>
                        <a:lnTo>
                          <a:pt x="2" y="66"/>
                        </a:lnTo>
                        <a:lnTo>
                          <a:pt x="1" y="61"/>
                        </a:lnTo>
                        <a:lnTo>
                          <a:pt x="0" y="57"/>
                        </a:lnTo>
                        <a:lnTo>
                          <a:pt x="0" y="53"/>
                        </a:lnTo>
                        <a:lnTo>
                          <a:pt x="0" y="50"/>
                        </a:lnTo>
                        <a:lnTo>
                          <a:pt x="0" y="46"/>
                        </a:lnTo>
                        <a:lnTo>
                          <a:pt x="0" y="43"/>
                        </a:lnTo>
                        <a:lnTo>
                          <a:pt x="1" y="39"/>
                        </a:lnTo>
                        <a:lnTo>
                          <a:pt x="2" y="35"/>
                        </a:lnTo>
                        <a:lnTo>
                          <a:pt x="4" y="32"/>
                        </a:lnTo>
                        <a:lnTo>
                          <a:pt x="6" y="28"/>
                        </a:lnTo>
                        <a:lnTo>
                          <a:pt x="8" y="25"/>
                        </a:lnTo>
                        <a:lnTo>
                          <a:pt x="11" y="22"/>
                        </a:lnTo>
                        <a:lnTo>
                          <a:pt x="14" y="18"/>
                        </a:lnTo>
                        <a:lnTo>
                          <a:pt x="17" y="16"/>
                        </a:lnTo>
                        <a:lnTo>
                          <a:pt x="21" y="13"/>
                        </a:lnTo>
                        <a:lnTo>
                          <a:pt x="23" y="11"/>
                        </a:lnTo>
                        <a:lnTo>
                          <a:pt x="27" y="8"/>
                        </a:lnTo>
                        <a:lnTo>
                          <a:pt x="31" y="6"/>
                        </a:lnTo>
                        <a:lnTo>
                          <a:pt x="36" y="4"/>
                        </a:lnTo>
                        <a:lnTo>
                          <a:pt x="39" y="3"/>
                        </a:lnTo>
                        <a:lnTo>
                          <a:pt x="44" y="1"/>
                        </a:lnTo>
                        <a:lnTo>
                          <a:pt x="49" y="0"/>
                        </a:lnTo>
                        <a:lnTo>
                          <a:pt x="53" y="0"/>
                        </a:lnTo>
                        <a:lnTo>
                          <a:pt x="57" y="0"/>
                        </a:lnTo>
                        <a:lnTo>
                          <a:pt x="62" y="0"/>
                        </a:lnTo>
                        <a:lnTo>
                          <a:pt x="67" y="0"/>
                        </a:lnTo>
                        <a:lnTo>
                          <a:pt x="72" y="1"/>
                        </a:lnTo>
                        <a:lnTo>
                          <a:pt x="422" y="50"/>
                        </a:lnTo>
                        <a:lnTo>
                          <a:pt x="404" y="15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990200" y="2632680"/>
                    <a:ext cx="28224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86">
                        <a:moveTo>
                          <a:pt x="397" y="85"/>
                        </a:moveTo>
                        <a:lnTo>
                          <a:pt x="52" y="27"/>
                        </a:lnTo>
                        <a:lnTo>
                          <a:pt x="43" y="25"/>
                        </a:lnTo>
                        <a:lnTo>
                          <a:pt x="37" y="24"/>
                        </a:lnTo>
                        <a:lnTo>
                          <a:pt x="34" y="23"/>
                        </a:lnTo>
                        <a:lnTo>
                          <a:pt x="30" y="22"/>
                        </a:lnTo>
                        <a:lnTo>
                          <a:pt x="25" y="21"/>
                        </a:lnTo>
                        <a:lnTo>
                          <a:pt x="21" y="19"/>
                        </a:lnTo>
                        <a:lnTo>
                          <a:pt x="17" y="18"/>
                        </a:lnTo>
                        <a:lnTo>
                          <a:pt x="13" y="17"/>
                        </a:lnTo>
                        <a:lnTo>
                          <a:pt x="9" y="15"/>
                        </a:lnTo>
                        <a:lnTo>
                          <a:pt x="6" y="14"/>
                        </a:lnTo>
                        <a:lnTo>
                          <a:pt x="4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  <a:lnTo>
                          <a:pt x="0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2" y="4"/>
                        </a:lnTo>
                        <a:lnTo>
                          <a:pt x="3" y="3"/>
                        </a:lnTo>
                        <a:lnTo>
                          <a:pt x="5" y="2"/>
                        </a:lnTo>
                        <a:lnTo>
                          <a:pt x="7" y="2"/>
                        </a:lnTo>
                        <a:lnTo>
                          <a:pt x="9" y="2"/>
                        </a:lnTo>
                        <a:lnTo>
                          <a:pt x="12" y="1"/>
                        </a:lnTo>
                        <a:lnTo>
                          <a:pt x="16" y="0"/>
                        </a:lnTo>
                        <a:lnTo>
                          <a:pt x="19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51" y="0"/>
                        </a:lnTo>
                        <a:lnTo>
                          <a:pt x="55" y="1"/>
                        </a:lnTo>
                        <a:lnTo>
                          <a:pt x="59" y="1"/>
                        </a:lnTo>
                        <a:lnTo>
                          <a:pt x="64" y="2"/>
                        </a:lnTo>
                        <a:lnTo>
                          <a:pt x="68" y="2"/>
                        </a:lnTo>
                        <a:lnTo>
                          <a:pt x="74" y="4"/>
                        </a:lnTo>
                        <a:lnTo>
                          <a:pt x="419" y="61"/>
                        </a:lnTo>
                        <a:lnTo>
                          <a:pt x="397" y="8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7597800" y="2576520"/>
                  <a:ext cx="344880" cy="111960"/>
                  <a:chOff x="7597800" y="2576520"/>
                  <a:chExt cx="344880" cy="1119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7597800" y="2577600"/>
                    <a:ext cx="344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65">
                        <a:moveTo>
                          <a:pt x="14" y="164"/>
                        </a:moveTo>
                        <a:lnTo>
                          <a:pt x="0" y="30"/>
                        </a:lnTo>
                        <a:lnTo>
                          <a:pt x="16" y="29"/>
                        </a:lnTo>
                        <a:lnTo>
                          <a:pt x="17" y="42"/>
                        </a:lnTo>
                        <a:lnTo>
                          <a:pt x="89" y="35"/>
                        </a:lnTo>
                        <a:lnTo>
                          <a:pt x="442" y="0"/>
                        </a:lnTo>
                        <a:lnTo>
                          <a:pt x="451" y="0"/>
                        </a:lnTo>
                        <a:lnTo>
                          <a:pt x="457" y="0"/>
                        </a:lnTo>
                        <a:lnTo>
                          <a:pt x="461" y="0"/>
                        </a:lnTo>
                        <a:lnTo>
                          <a:pt x="465" y="1"/>
                        </a:lnTo>
                        <a:lnTo>
                          <a:pt x="471" y="3"/>
                        </a:lnTo>
                        <a:lnTo>
                          <a:pt x="476" y="5"/>
                        </a:lnTo>
                        <a:lnTo>
                          <a:pt x="482" y="7"/>
                        </a:lnTo>
                        <a:lnTo>
                          <a:pt x="486" y="10"/>
                        </a:lnTo>
                        <a:lnTo>
                          <a:pt x="491" y="13"/>
                        </a:lnTo>
                        <a:lnTo>
                          <a:pt x="495" y="16"/>
                        </a:lnTo>
                        <a:lnTo>
                          <a:pt x="498" y="19"/>
                        </a:lnTo>
                        <a:lnTo>
                          <a:pt x="500" y="21"/>
                        </a:lnTo>
                        <a:lnTo>
                          <a:pt x="503" y="24"/>
                        </a:lnTo>
                        <a:lnTo>
                          <a:pt x="505" y="29"/>
                        </a:lnTo>
                        <a:lnTo>
                          <a:pt x="508" y="33"/>
                        </a:lnTo>
                        <a:lnTo>
                          <a:pt x="509" y="36"/>
                        </a:lnTo>
                        <a:lnTo>
                          <a:pt x="510" y="40"/>
                        </a:lnTo>
                        <a:lnTo>
                          <a:pt x="511" y="44"/>
                        </a:lnTo>
                        <a:lnTo>
                          <a:pt x="511" y="47"/>
                        </a:lnTo>
                        <a:lnTo>
                          <a:pt x="512" y="51"/>
                        </a:lnTo>
                        <a:lnTo>
                          <a:pt x="512" y="56"/>
                        </a:lnTo>
                        <a:lnTo>
                          <a:pt x="511" y="60"/>
                        </a:lnTo>
                        <a:lnTo>
                          <a:pt x="510" y="63"/>
                        </a:lnTo>
                        <a:lnTo>
                          <a:pt x="509" y="67"/>
                        </a:lnTo>
                        <a:lnTo>
                          <a:pt x="507" y="71"/>
                        </a:lnTo>
                        <a:lnTo>
                          <a:pt x="504" y="76"/>
                        </a:lnTo>
                        <a:lnTo>
                          <a:pt x="502" y="79"/>
                        </a:lnTo>
                        <a:lnTo>
                          <a:pt x="500" y="82"/>
                        </a:lnTo>
                        <a:lnTo>
                          <a:pt x="498" y="85"/>
                        </a:lnTo>
                        <a:lnTo>
                          <a:pt x="495" y="88"/>
                        </a:lnTo>
                        <a:lnTo>
                          <a:pt x="492" y="92"/>
                        </a:lnTo>
                        <a:lnTo>
                          <a:pt x="488" y="95"/>
                        </a:lnTo>
                        <a:lnTo>
                          <a:pt x="485" y="97"/>
                        </a:lnTo>
                        <a:lnTo>
                          <a:pt x="481" y="100"/>
                        </a:lnTo>
                        <a:lnTo>
                          <a:pt x="476" y="102"/>
                        </a:lnTo>
                        <a:lnTo>
                          <a:pt x="472" y="104"/>
                        </a:lnTo>
                        <a:lnTo>
                          <a:pt x="469" y="105"/>
                        </a:lnTo>
                        <a:lnTo>
                          <a:pt x="464" y="106"/>
                        </a:lnTo>
                        <a:lnTo>
                          <a:pt x="459" y="106"/>
                        </a:lnTo>
                        <a:lnTo>
                          <a:pt x="454" y="107"/>
                        </a:lnTo>
                        <a:lnTo>
                          <a:pt x="101" y="141"/>
                        </a:lnTo>
                        <a:lnTo>
                          <a:pt x="29" y="148"/>
                        </a:lnTo>
                        <a:lnTo>
                          <a:pt x="31" y="162"/>
                        </a:lnTo>
                        <a:lnTo>
                          <a:pt x="14" y="16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657560" y="2576520"/>
                    <a:ext cx="28440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3" h="141">
                        <a:moveTo>
                          <a:pt x="0" y="37"/>
                        </a:moveTo>
                        <a:lnTo>
                          <a:pt x="352" y="0"/>
                        </a:lnTo>
                        <a:lnTo>
                          <a:pt x="361" y="0"/>
                        </a:lnTo>
                        <a:lnTo>
                          <a:pt x="367" y="0"/>
                        </a:lnTo>
                        <a:lnTo>
                          <a:pt x="372" y="0"/>
                        </a:lnTo>
                        <a:lnTo>
                          <a:pt x="376" y="1"/>
                        </a:lnTo>
                        <a:lnTo>
                          <a:pt x="381" y="3"/>
                        </a:lnTo>
                        <a:lnTo>
                          <a:pt x="387" y="4"/>
                        </a:lnTo>
                        <a:lnTo>
                          <a:pt x="392" y="7"/>
                        </a:lnTo>
                        <a:lnTo>
                          <a:pt x="397" y="9"/>
                        </a:lnTo>
                        <a:lnTo>
                          <a:pt x="402" y="12"/>
                        </a:lnTo>
                        <a:lnTo>
                          <a:pt x="406" y="15"/>
                        </a:lnTo>
                        <a:lnTo>
                          <a:pt x="408" y="18"/>
                        </a:lnTo>
                        <a:lnTo>
                          <a:pt x="410" y="20"/>
                        </a:lnTo>
                        <a:lnTo>
                          <a:pt x="413" y="23"/>
                        </a:lnTo>
                        <a:lnTo>
                          <a:pt x="415" y="27"/>
                        </a:lnTo>
                        <a:lnTo>
                          <a:pt x="418" y="31"/>
                        </a:lnTo>
                        <a:lnTo>
                          <a:pt x="419" y="34"/>
                        </a:lnTo>
                        <a:lnTo>
                          <a:pt x="420" y="38"/>
                        </a:lnTo>
                        <a:lnTo>
                          <a:pt x="421" y="42"/>
                        </a:lnTo>
                        <a:lnTo>
                          <a:pt x="421" y="45"/>
                        </a:lnTo>
                        <a:lnTo>
                          <a:pt x="421" y="49"/>
                        </a:lnTo>
                        <a:lnTo>
                          <a:pt x="422" y="53"/>
                        </a:lnTo>
                        <a:lnTo>
                          <a:pt x="420" y="56"/>
                        </a:lnTo>
                        <a:lnTo>
                          <a:pt x="420" y="60"/>
                        </a:lnTo>
                        <a:lnTo>
                          <a:pt x="418" y="63"/>
                        </a:lnTo>
                        <a:lnTo>
                          <a:pt x="417" y="67"/>
                        </a:lnTo>
                        <a:lnTo>
                          <a:pt x="414" y="72"/>
                        </a:lnTo>
                        <a:lnTo>
                          <a:pt x="412" y="75"/>
                        </a:lnTo>
                        <a:lnTo>
                          <a:pt x="410" y="78"/>
                        </a:lnTo>
                        <a:lnTo>
                          <a:pt x="408" y="81"/>
                        </a:lnTo>
                        <a:lnTo>
                          <a:pt x="405" y="84"/>
                        </a:lnTo>
                        <a:lnTo>
                          <a:pt x="402" y="88"/>
                        </a:lnTo>
                        <a:lnTo>
                          <a:pt x="397" y="91"/>
                        </a:lnTo>
                        <a:lnTo>
                          <a:pt x="394" y="93"/>
                        </a:lnTo>
                        <a:lnTo>
                          <a:pt x="390" y="96"/>
                        </a:lnTo>
                        <a:lnTo>
                          <a:pt x="385" y="98"/>
                        </a:lnTo>
                        <a:lnTo>
                          <a:pt x="381" y="99"/>
                        </a:lnTo>
                        <a:lnTo>
                          <a:pt x="378" y="100"/>
                        </a:lnTo>
                        <a:lnTo>
                          <a:pt x="373" y="101"/>
                        </a:lnTo>
                        <a:lnTo>
                          <a:pt x="368" y="102"/>
                        </a:lnTo>
                        <a:lnTo>
                          <a:pt x="363" y="103"/>
                        </a:lnTo>
                        <a:lnTo>
                          <a:pt x="10" y="140"/>
                        </a:lnTo>
                        <a:lnTo>
                          <a:pt x="0" y="3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50000" y="2627280"/>
                    <a:ext cx="2836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58">
                        <a:moveTo>
                          <a:pt x="14" y="28"/>
                        </a:moveTo>
                        <a:lnTo>
                          <a:pt x="365" y="1"/>
                        </a:lnTo>
                        <a:lnTo>
                          <a:pt x="374" y="0"/>
                        </a:lnTo>
                        <a:lnTo>
                          <a:pt x="380" y="0"/>
                        </a:lnTo>
                        <a:lnTo>
                          <a:pt x="383" y="0"/>
                        </a:lnTo>
                        <a:lnTo>
                          <a:pt x="387" y="0"/>
                        </a:lnTo>
                        <a:lnTo>
                          <a:pt x="392" y="0"/>
                        </a:lnTo>
                        <a:lnTo>
                          <a:pt x="397" y="1"/>
                        </a:lnTo>
                        <a:lnTo>
                          <a:pt x="401" y="1"/>
                        </a:lnTo>
                        <a:lnTo>
                          <a:pt x="405" y="1"/>
                        </a:lnTo>
                        <a:lnTo>
                          <a:pt x="409" y="2"/>
                        </a:lnTo>
                        <a:lnTo>
                          <a:pt x="413" y="2"/>
                        </a:lnTo>
                        <a:lnTo>
                          <a:pt x="414" y="3"/>
                        </a:lnTo>
                        <a:lnTo>
                          <a:pt x="416" y="4"/>
                        </a:lnTo>
                        <a:lnTo>
                          <a:pt x="418" y="4"/>
                        </a:lnTo>
                        <a:lnTo>
                          <a:pt x="419" y="5"/>
                        </a:lnTo>
                        <a:lnTo>
                          <a:pt x="421" y="6"/>
                        </a:lnTo>
                        <a:lnTo>
                          <a:pt x="420" y="7"/>
                        </a:lnTo>
                        <a:lnTo>
                          <a:pt x="421" y="8"/>
                        </a:lnTo>
                        <a:lnTo>
                          <a:pt x="420" y="9"/>
                        </a:lnTo>
                        <a:lnTo>
                          <a:pt x="421" y="10"/>
                        </a:lnTo>
                        <a:lnTo>
                          <a:pt x="420" y="11"/>
                        </a:lnTo>
                        <a:lnTo>
                          <a:pt x="419" y="12"/>
                        </a:lnTo>
                        <a:lnTo>
                          <a:pt x="417" y="14"/>
                        </a:lnTo>
                        <a:lnTo>
                          <a:pt x="416" y="14"/>
                        </a:lnTo>
                        <a:lnTo>
                          <a:pt x="413" y="15"/>
                        </a:lnTo>
                        <a:lnTo>
                          <a:pt x="410" y="16"/>
                        </a:lnTo>
                        <a:lnTo>
                          <a:pt x="407" y="18"/>
                        </a:lnTo>
                        <a:lnTo>
                          <a:pt x="404" y="19"/>
                        </a:lnTo>
                        <a:lnTo>
                          <a:pt x="401" y="20"/>
                        </a:lnTo>
                        <a:lnTo>
                          <a:pt x="398" y="21"/>
                        </a:lnTo>
                        <a:lnTo>
                          <a:pt x="395" y="22"/>
                        </a:lnTo>
                        <a:lnTo>
                          <a:pt x="391" y="23"/>
                        </a:lnTo>
                        <a:lnTo>
                          <a:pt x="386" y="24"/>
                        </a:lnTo>
                        <a:lnTo>
                          <a:pt x="383" y="25"/>
                        </a:lnTo>
                        <a:lnTo>
                          <a:pt x="378" y="26"/>
                        </a:lnTo>
                        <a:lnTo>
                          <a:pt x="373" y="26"/>
                        </a:lnTo>
                        <a:lnTo>
                          <a:pt x="369" y="27"/>
                        </a:lnTo>
                        <a:lnTo>
                          <a:pt x="365" y="28"/>
                        </a:lnTo>
                        <a:lnTo>
                          <a:pt x="360" y="28"/>
                        </a:lnTo>
                        <a:lnTo>
                          <a:pt x="355" y="29"/>
                        </a:lnTo>
                        <a:lnTo>
                          <a:pt x="350" y="29"/>
                        </a:lnTo>
                        <a:lnTo>
                          <a:pt x="0" y="57"/>
                        </a:lnTo>
                        <a:lnTo>
                          <a:pt x="14" y="2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6" name=""/>
              <p:cNvSpPr/>
              <p:nvPr/>
            </p:nvSpPr>
            <p:spPr>
              <a:xfrm>
                <a:off x="7450560" y="2817000"/>
                <a:ext cx="338760" cy="489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74760" y="2793960"/>
                <a:ext cx="135000" cy="47520"/>
              </a:xfrm>
              <a:custGeom>
                <a:avLst/>
                <a:gdLst/>
                <a:ahLst/>
                <a:rect l="l" t="t" r="r" b="b"/>
                <a:pathLst>
                  <a:path w="201" h="71">
                    <a:moveTo>
                      <a:pt x="0" y="17"/>
                    </a:moveTo>
                    <a:lnTo>
                      <a:pt x="33" y="0"/>
                    </a:lnTo>
                    <a:lnTo>
                      <a:pt x="58" y="0"/>
                    </a:lnTo>
                    <a:lnTo>
                      <a:pt x="83" y="0"/>
                    </a:lnTo>
                    <a:lnTo>
                      <a:pt x="108" y="0"/>
                    </a:lnTo>
                    <a:lnTo>
                      <a:pt x="133" y="0"/>
                    </a:lnTo>
                    <a:lnTo>
                      <a:pt x="158" y="0"/>
                    </a:lnTo>
                    <a:lnTo>
                      <a:pt x="200" y="35"/>
                    </a:lnTo>
                    <a:lnTo>
                      <a:pt x="191" y="26"/>
                    </a:lnTo>
                    <a:lnTo>
                      <a:pt x="175" y="52"/>
                    </a:lnTo>
                    <a:lnTo>
                      <a:pt x="150" y="70"/>
                    </a:lnTo>
                    <a:lnTo>
                      <a:pt x="125" y="52"/>
                    </a:lnTo>
                    <a:lnTo>
                      <a:pt x="100" y="52"/>
                    </a:lnTo>
                    <a:lnTo>
                      <a:pt x="75" y="61"/>
                    </a:lnTo>
                    <a:lnTo>
                      <a:pt x="50" y="70"/>
                    </a:lnTo>
                    <a:lnTo>
                      <a:pt x="25" y="7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74760" y="2804400"/>
                <a:ext cx="135000" cy="37440"/>
              </a:xfrm>
              <a:custGeom>
                <a:avLst/>
                <a:gdLst/>
                <a:ahLst/>
                <a:rect l="l" t="t" r="r" b="b"/>
                <a:pathLst>
                  <a:path w="201" h="56">
                    <a:moveTo>
                      <a:pt x="0" y="19"/>
                    </a:moveTo>
                    <a:lnTo>
                      <a:pt x="23" y="0"/>
                    </a:lnTo>
                    <a:lnTo>
                      <a:pt x="35" y="23"/>
                    </a:lnTo>
                    <a:lnTo>
                      <a:pt x="41" y="47"/>
                    </a:lnTo>
                    <a:lnTo>
                      <a:pt x="59" y="47"/>
                    </a:lnTo>
                    <a:lnTo>
                      <a:pt x="77" y="55"/>
                    </a:lnTo>
                    <a:lnTo>
                      <a:pt x="95" y="55"/>
                    </a:lnTo>
                    <a:lnTo>
                      <a:pt x="113" y="55"/>
                    </a:lnTo>
                    <a:lnTo>
                      <a:pt x="131" y="55"/>
                    </a:lnTo>
                    <a:lnTo>
                      <a:pt x="131" y="31"/>
                    </a:lnTo>
                    <a:lnTo>
                      <a:pt x="136" y="7"/>
                    </a:lnTo>
                    <a:lnTo>
                      <a:pt x="200" y="19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19040" y="2700720"/>
                <a:ext cx="0" cy="117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25480" y="2751120"/>
                <a:ext cx="383040" cy="180720"/>
              </a:xfrm>
              <a:custGeom>
                <a:avLst/>
                <a:gdLst/>
                <a:ahLst/>
                <a:rect l="l" t="t" r="r" b="b"/>
                <a:pathLst>
                  <a:path w="570" h="269">
                    <a:moveTo>
                      <a:pt x="207" y="247"/>
                    </a:moveTo>
                    <a:lnTo>
                      <a:pt x="223" y="247"/>
                    </a:lnTo>
                    <a:lnTo>
                      <a:pt x="339" y="247"/>
                    </a:lnTo>
                    <a:lnTo>
                      <a:pt x="403" y="234"/>
                    </a:lnTo>
                    <a:lnTo>
                      <a:pt x="416" y="231"/>
                    </a:lnTo>
                    <a:lnTo>
                      <a:pt x="423" y="227"/>
                    </a:lnTo>
                    <a:lnTo>
                      <a:pt x="431" y="222"/>
                    </a:lnTo>
                    <a:lnTo>
                      <a:pt x="438" y="217"/>
                    </a:lnTo>
                    <a:lnTo>
                      <a:pt x="569" y="237"/>
                    </a:lnTo>
                    <a:lnTo>
                      <a:pt x="569" y="134"/>
                    </a:lnTo>
                    <a:lnTo>
                      <a:pt x="472" y="125"/>
                    </a:lnTo>
                    <a:lnTo>
                      <a:pt x="456" y="121"/>
                    </a:lnTo>
                    <a:lnTo>
                      <a:pt x="442" y="115"/>
                    </a:lnTo>
                    <a:lnTo>
                      <a:pt x="430" y="109"/>
                    </a:lnTo>
                    <a:lnTo>
                      <a:pt x="410" y="85"/>
                    </a:lnTo>
                    <a:lnTo>
                      <a:pt x="372" y="63"/>
                    </a:lnTo>
                    <a:lnTo>
                      <a:pt x="331" y="42"/>
                    </a:lnTo>
                    <a:lnTo>
                      <a:pt x="298" y="15"/>
                    </a:lnTo>
                    <a:lnTo>
                      <a:pt x="285" y="8"/>
                    </a:lnTo>
                    <a:lnTo>
                      <a:pt x="272" y="1"/>
                    </a:lnTo>
                    <a:lnTo>
                      <a:pt x="259" y="0"/>
                    </a:lnTo>
                    <a:lnTo>
                      <a:pt x="249" y="3"/>
                    </a:lnTo>
                    <a:lnTo>
                      <a:pt x="244" y="8"/>
                    </a:lnTo>
                    <a:lnTo>
                      <a:pt x="244" y="17"/>
                    </a:lnTo>
                    <a:lnTo>
                      <a:pt x="245" y="25"/>
                    </a:lnTo>
                    <a:lnTo>
                      <a:pt x="253" y="36"/>
                    </a:lnTo>
                    <a:lnTo>
                      <a:pt x="271" y="54"/>
                    </a:lnTo>
                    <a:lnTo>
                      <a:pt x="290" y="70"/>
                    </a:lnTo>
                    <a:lnTo>
                      <a:pt x="310" y="88"/>
                    </a:lnTo>
                    <a:lnTo>
                      <a:pt x="275" y="94"/>
                    </a:lnTo>
                    <a:lnTo>
                      <a:pt x="34" y="73"/>
                    </a:lnTo>
                    <a:lnTo>
                      <a:pt x="30" y="73"/>
                    </a:lnTo>
                    <a:lnTo>
                      <a:pt x="22" y="73"/>
                    </a:lnTo>
                    <a:lnTo>
                      <a:pt x="17" y="76"/>
                    </a:lnTo>
                    <a:lnTo>
                      <a:pt x="14" y="82"/>
                    </a:lnTo>
                    <a:lnTo>
                      <a:pt x="12" y="87"/>
                    </a:lnTo>
                    <a:lnTo>
                      <a:pt x="13" y="93"/>
                    </a:lnTo>
                    <a:lnTo>
                      <a:pt x="17" y="96"/>
                    </a:lnTo>
                    <a:lnTo>
                      <a:pt x="22" y="99"/>
                    </a:lnTo>
                    <a:lnTo>
                      <a:pt x="202" y="126"/>
                    </a:lnTo>
                    <a:lnTo>
                      <a:pt x="202" y="132"/>
                    </a:lnTo>
                    <a:lnTo>
                      <a:pt x="18" y="130"/>
                    </a:lnTo>
                    <a:lnTo>
                      <a:pt x="10" y="133"/>
                    </a:lnTo>
                    <a:lnTo>
                      <a:pt x="5" y="136"/>
                    </a:lnTo>
                    <a:lnTo>
                      <a:pt x="0" y="139"/>
                    </a:lnTo>
                    <a:lnTo>
                      <a:pt x="0" y="145"/>
                    </a:lnTo>
                    <a:lnTo>
                      <a:pt x="1" y="150"/>
                    </a:lnTo>
                    <a:lnTo>
                      <a:pt x="4" y="154"/>
                    </a:lnTo>
                    <a:lnTo>
                      <a:pt x="9" y="157"/>
                    </a:lnTo>
                    <a:lnTo>
                      <a:pt x="16" y="159"/>
                    </a:lnTo>
                    <a:lnTo>
                      <a:pt x="193" y="167"/>
                    </a:lnTo>
                    <a:lnTo>
                      <a:pt x="195" y="173"/>
                    </a:lnTo>
                    <a:lnTo>
                      <a:pt x="21" y="183"/>
                    </a:lnTo>
                    <a:lnTo>
                      <a:pt x="15" y="186"/>
                    </a:lnTo>
                    <a:lnTo>
                      <a:pt x="11" y="190"/>
                    </a:lnTo>
                    <a:lnTo>
                      <a:pt x="9" y="194"/>
                    </a:lnTo>
                    <a:lnTo>
                      <a:pt x="11" y="202"/>
                    </a:lnTo>
                    <a:lnTo>
                      <a:pt x="15" y="207"/>
                    </a:lnTo>
                    <a:lnTo>
                      <a:pt x="23" y="210"/>
                    </a:lnTo>
                    <a:lnTo>
                      <a:pt x="32" y="211"/>
                    </a:lnTo>
                    <a:lnTo>
                      <a:pt x="196" y="207"/>
                    </a:lnTo>
                    <a:lnTo>
                      <a:pt x="198" y="212"/>
                    </a:lnTo>
                    <a:lnTo>
                      <a:pt x="43" y="245"/>
                    </a:lnTo>
                    <a:lnTo>
                      <a:pt x="35" y="249"/>
                    </a:lnTo>
                    <a:lnTo>
                      <a:pt x="33" y="253"/>
                    </a:lnTo>
                    <a:lnTo>
                      <a:pt x="35" y="259"/>
                    </a:lnTo>
                    <a:lnTo>
                      <a:pt x="40" y="265"/>
                    </a:lnTo>
                    <a:lnTo>
                      <a:pt x="48" y="268"/>
                    </a:lnTo>
                    <a:lnTo>
                      <a:pt x="57" y="268"/>
                    </a:lnTo>
                    <a:lnTo>
                      <a:pt x="207" y="247"/>
                    </a:lnTo>
                  </a:path>
                </a:pathLst>
              </a:custGeom>
              <a:solidFill>
                <a:srgbClr val="ffffff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318520" y="2724120"/>
                <a:ext cx="0" cy="11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7005600" y="4292640"/>
            <a:ext cx="1981080" cy="1955880"/>
            <a:chOff x="7005600" y="4292640"/>
            <a:chExt cx="1981080" cy="1955880"/>
          </a:xfrm>
        </p:grpSpPr>
        <p:sp>
          <p:nvSpPr>
            <p:cNvPr id="203" name=""/>
            <p:cNvSpPr/>
            <p:nvPr/>
          </p:nvSpPr>
          <p:spPr>
            <a:xfrm>
              <a:off x="7005600" y="4292640"/>
              <a:ext cx="1981080" cy="1955880"/>
            </a:xfrm>
            <a:prstGeom prst="diamond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11800" y="4397760"/>
              <a:ext cx="1768320" cy="174564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1160" y="5003640"/>
              <a:ext cx="116280" cy="414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01960" y="4733640"/>
              <a:ext cx="115920" cy="80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86440" y="4525200"/>
              <a:ext cx="115920" cy="137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9320" y="4494600"/>
              <a:ext cx="116280" cy="149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43800" y="4764240"/>
              <a:ext cx="116280" cy="74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71880" y="5270760"/>
              <a:ext cx="103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Impact"/>
                </a:rPr>
                <a:t>SÓL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4240" y="4974480"/>
              <a:ext cx="116280" cy="38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996320" y="5270400"/>
              <a:ext cx="879120" cy="867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16480" y="5270760"/>
              <a:ext cx="879480" cy="867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116480" y="4402800"/>
              <a:ext cx="879480" cy="86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7996320" y="4402800"/>
              <a:ext cx="879120" cy="867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rot="10800000">
              <a:off x="7117920" y="5272920"/>
              <a:ext cx="1753560" cy="8622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43920" y="5301000"/>
              <a:ext cx="1558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</a:rPr>
                <a:t>SUBSTÂNCIAS PERIGOS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3760" y="56185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35480" y="5899320"/>
              <a:ext cx="120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16480" y="5270760"/>
              <a:ext cx="175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" descr=""/>
          <p:cNvPicPr/>
          <p:nvPr/>
        </p:nvPicPr>
        <p:blipFill>
          <a:blip r:embed="rId1"/>
          <a:srcRect l="37561" t="63507" r="51397" b="19530"/>
          <a:stretch/>
        </p:blipFill>
        <p:spPr>
          <a:xfrm>
            <a:off x="7277040" y="43812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57200" y="187956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o Brasil, todo trabalho com produto químico está enquadrado no Decreto 2657, de 03 de Julho de 1997, além do controle realizado pelo Exército do uso de Materiais Perigosos. O próprio Código de Defesa do Consumidor orienta para a informação de todos os riscos inerentes ao produto que é vendido, sendo que o consumidor tem o direito de saber o que está comprando, assim como o fornecedor tem o dever de informar completamente os ris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066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ICHA DE SEGURANÇA DE PRODUTOS QUÍ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359920" y="67388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40044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 é a forma de conhecermos o que há nos produtos químicos que utiliz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65640" y="1752480"/>
            <a:ext cx="3756240" cy="1008720"/>
          </a:xfrm>
          <a:prstGeom prst="rect">
            <a:avLst/>
          </a:prstGeom>
          <a:solidFill>
            <a:srgbClr val="ff0000"/>
          </a:solidFill>
          <a:ln w="1260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icha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 Segu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 Produto Quí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676520" y="1809720"/>
            <a:ext cx="3126960" cy="1009800"/>
            <a:chOff x="1676520" y="1809720"/>
            <a:chExt cx="3126960" cy="1009800"/>
          </a:xfrm>
        </p:grpSpPr>
        <p:sp>
          <p:nvSpPr>
            <p:cNvPr id="228" name=""/>
            <p:cNvSpPr txBox="1"/>
            <p:nvPr/>
          </p:nvSpPr>
          <p:spPr>
            <a:xfrm>
              <a:off x="1676520" y="1809720"/>
              <a:ext cx="2203560" cy="10098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FISPQ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0280" y="2019240"/>
              <a:ext cx="583200" cy="228600"/>
            </a:xfrm>
            <a:prstGeom prst="rightArrow">
              <a:avLst>
                <a:gd name="adj1" fmla="val 50000"/>
                <a:gd name="adj2" fmla="val 6378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04080" y="2495520"/>
              <a:ext cx="583200" cy="228600"/>
            </a:xfrm>
            <a:prstGeom prst="leftArrow">
              <a:avLst>
                <a:gd name="adj1" fmla="val 50000"/>
                <a:gd name="adj2" fmla="val 6378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04920" y="4403880"/>
            <a:ext cx="8686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 QUE HÁ NAS FICHA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dentificação do Produto Químico, Composição do Produto Químico, Características Físicas e Químicas, Riscos de Fogo e Explosão,  Informações sobre Primeiros Socorros, Informações sobre Tratamento de Efluentes, controles de segurança( EPI´s/ EPC´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87960" y="2828880"/>
            <a:ext cx="373392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44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cha com Dados de Segurança de um Produto Quím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374120" y="2895480"/>
            <a:ext cx="3451680" cy="1282680"/>
            <a:chOff x="1374120" y="2895480"/>
            <a:chExt cx="3451680" cy="1282680"/>
          </a:xfrm>
        </p:grpSpPr>
        <p:sp>
          <p:nvSpPr>
            <p:cNvPr id="234" name=""/>
            <p:cNvSpPr/>
            <p:nvPr/>
          </p:nvSpPr>
          <p:spPr>
            <a:xfrm>
              <a:off x="4208400" y="3048120"/>
              <a:ext cx="617400" cy="228600"/>
            </a:xfrm>
            <a:prstGeom prst="rightArrow">
              <a:avLst>
                <a:gd name="adj1" fmla="val 50000"/>
                <a:gd name="adj2" fmla="val 6752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1120" y="3429000"/>
              <a:ext cx="617400" cy="228600"/>
            </a:xfrm>
            <a:prstGeom prst="leftArrow">
              <a:avLst>
                <a:gd name="adj1" fmla="val 50000"/>
                <a:gd name="adj2" fmla="val 6752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514520" y="2895480"/>
              <a:ext cx="2333160" cy="91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MSDS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74120" y="3809880"/>
              <a:ext cx="297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terial Safety Data She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130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45720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CONTEÚDO DE INFORMAÇÃO DA FISQ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9144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. Identificação do produto e d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157176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2. Composição e informação sobre os ingred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21049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3. Identificação de per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2819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4. Medidas de primeiros-socor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362916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5. Medidas de combate a incên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41623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6. Medidas de controle para derramamento ou va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76252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8. Controle de exposição e proteção indivi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57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9. Propriedades físico-quím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48481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0. Estabilidade e reativ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92444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7. Manuseio e armazen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08636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1. Informações toxicoló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81680" y="34005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2. Informações ecológ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28195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3. Considerações sobre tratamento e dispos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16477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5. Regulament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9144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6. Outras informa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104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mic Sans MS"/>
              </a:rPr>
              <a:t>14. Informações sobr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img0" descr=""/>
          <p:cNvPicPr/>
          <p:nvPr/>
        </p:nvPicPr>
        <p:blipFill>
          <a:blip r:embed="rId1"/>
          <a:stretch/>
        </p:blipFill>
        <p:spPr>
          <a:xfrm>
            <a:off x="3429000" y="2338560"/>
            <a:ext cx="2286000" cy="18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0280" y="638280"/>
            <a:ext cx="34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cc3300"/>
                </a:solidFill>
                <a:latin typeface="Arial"/>
              </a:rPr>
              <a:t>ROTULAG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" y="1523880"/>
            <a:ext cx="83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produtos químicos em uso, estocados na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 nos almoxarifados devem possuir rótulos(etique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 sua identific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etiqueta é uma forma eficaz de alertar os empregados sobre riscos potenciais à saúde, meio ambiente e incêndio associados a um determinado produ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tes de manusearem qualquer produto quím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empregados devem ler e entender o conteúdo de s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iqu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8240" y="6705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3520" y="609480"/>
            <a:ext cx="28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ESTOCA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360" y="1494000"/>
            <a:ext cx="8153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Os locais de estocagem de produtos químicos deverão possuir placas de sinalização de acordo com a norma e contendo as mesmas informações descritas nas etiquetas de identificação e também atender as seguintes condiçõ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Piso impermeável, sem rachaduras ou junt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Afastado de drenos e ralos interligados a drenagem pluvial  e a rede de esgotos sanitári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Sistema de contenção de vazament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Produtos dispostos em pallets  ou estantes para poder detectar vazamentos e estocados somente nos locais relacionados no invent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920" y="68580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DESC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66760" y="358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95360" y="148608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4960" y="8380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TRANSPOR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9520" y="1779480"/>
            <a:ext cx="8183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Os produtos químicos só deverão ser transportados em embalagens fechadas e acondicionados de forma segura evitando derramam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A ficha de emergência deverá  acompanhar o  transporte do produto até sua chegada ao almoxarif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</a:rPr>
              <a:t>Os produtos inflamáveis para serem transportados fora da embalagem original, devem estar acondicionados em container metálico de seguranç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89120" y="1066680"/>
            <a:ext cx="7974000" cy="74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1104840"/>
            <a:ext cx="8763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rodução e o uso de produtos químicos são fatores fundamentais para o desenvolvimento econômico de todos os país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uma maneira ou de outra os produtos químicos afetam as vidas de todos os seres humanos direta ou indiretamente  por serem essenciais a nossa alimentação (agricultura), saúde (produtos farmacêuticos) e nosso bem estar (eletrodomésticos, combustíveis, etc..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primeiro passo para um uso seguro de produtos químicos é saber identificá-lo quanto aos perigos para a saúde, o ambiente, e os meios para seu contr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9000" y="91440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SINALIZ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6000" y="1752480"/>
            <a:ext cx="835092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A sinalização deve ser feita de material durável de acordo com a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ondições previstas do ambiente e do tempo de exposição estim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A cor e forma da sinalização devem estar de acordo com 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requisitos regulamentares (NR-26 Sinalização de Segurança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As letras devem ser grandes, de alta visibilidade e facilment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vistas em locais escuros ou com pouca luz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Os sinais de aviso / informação são exigidos nos locais d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estocagem e manuse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838080"/>
            <a:ext cx="87631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MANUSE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s pessoas que  manusearem produtos químicos deverão  ser treinadas, conhecerem os riscos através da FISPQ e usar os EPI’s específicos para cada prod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É de responsabilidade das áreas usuárias dos produtos químicos fazer a etiquetagem, rotulagem e sinalização desses  produtos e de seus locais de estocagem, mantendo os FISPQ/ MSDS nesses locais, além de garantir que os empregados sejam treinados e conheçam a MSDS de cada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A FISPQ/ MSDS deve estar em um local na área de estoc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143000" y="2851200"/>
            <a:ext cx="3222360" cy="1893600"/>
            <a:chOff x="1143000" y="2851200"/>
            <a:chExt cx="3222360" cy="1893600"/>
          </a:xfrm>
        </p:grpSpPr>
        <p:sp>
          <p:nvSpPr>
            <p:cNvPr id="271" name=""/>
            <p:cNvSpPr/>
            <p:nvPr/>
          </p:nvSpPr>
          <p:spPr>
            <a:xfrm>
              <a:off x="1143000" y="4368240"/>
              <a:ext cx="3222360" cy="376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43000" y="3866760"/>
              <a:ext cx="3222360" cy="376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2851200"/>
              <a:ext cx="32223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790571"/>
                  </a:solidFill>
                  <a:latin typeface="Comic Sans MS"/>
                </a:rPr>
                <a:t>CCI-Bombeiro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43000" y="3359160"/>
              <a:ext cx="32223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790571"/>
                  </a:solidFill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365720" y="2438280"/>
            <a:ext cx="1148760" cy="2304360"/>
            <a:chOff x="4365720" y="2438280"/>
            <a:chExt cx="1148760" cy="2304360"/>
          </a:xfrm>
        </p:grpSpPr>
        <p:sp>
          <p:nvSpPr>
            <p:cNvPr id="276" name=""/>
            <p:cNvSpPr/>
            <p:nvPr/>
          </p:nvSpPr>
          <p:spPr>
            <a:xfrm>
              <a:off x="4365720" y="2844360"/>
              <a:ext cx="11487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Comic Sans MS"/>
                </a:rPr>
                <a:t>19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5720" y="3866760"/>
              <a:ext cx="11487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Comic Sans MS"/>
                </a:rPr>
                <a:t>1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65720" y="3352320"/>
              <a:ext cx="11487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Comic Sans MS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65720" y="4374360"/>
              <a:ext cx="1148760" cy="368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3300"/>
                  </a:solidFill>
                  <a:latin typeface="Comic Sans MS"/>
                </a:rPr>
                <a:t>1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98480" y="2438280"/>
              <a:ext cx="11160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3300"/>
                  </a:solidFill>
                  <a:latin typeface="Comic Sans MS"/>
                </a:rPr>
                <a:t>In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514840" y="2438280"/>
            <a:ext cx="1952280" cy="2311920"/>
            <a:chOff x="5514840" y="2438280"/>
            <a:chExt cx="1952280" cy="2311920"/>
          </a:xfrm>
        </p:grpSpPr>
        <p:sp>
          <p:nvSpPr>
            <p:cNvPr id="282" name=""/>
            <p:cNvSpPr/>
            <p:nvPr/>
          </p:nvSpPr>
          <p:spPr>
            <a:xfrm>
              <a:off x="5514840" y="2438280"/>
              <a:ext cx="195228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3300"/>
                  </a:solidFill>
                  <a:latin typeface="Comic Sans MS"/>
                </a:rPr>
                <a:t>Ext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514840" y="2844360"/>
              <a:ext cx="1951920" cy="1905840"/>
              <a:chOff x="5514840" y="2844360"/>
              <a:chExt cx="1951920" cy="1905840"/>
            </a:xfrm>
          </p:grpSpPr>
          <p:sp>
            <p:nvSpPr>
              <p:cNvPr id="284" name=""/>
              <p:cNvSpPr/>
              <p:nvPr/>
            </p:nvSpPr>
            <p:spPr>
              <a:xfrm>
                <a:off x="5514840" y="2844360"/>
                <a:ext cx="1951920" cy="376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14840" y="3866040"/>
                <a:ext cx="1951920" cy="376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14840" y="3351600"/>
                <a:ext cx="1951920" cy="376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4840" y="4373640"/>
                <a:ext cx="1951920" cy="3765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/>
          <p:nvPr/>
        </p:nvSpPr>
        <p:spPr>
          <a:xfrm>
            <a:off x="509760" y="914400"/>
            <a:ext cx="812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Diante de  um acidente ou situação de emergência: 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acione</a:t>
            </a:r>
            <a:r>
              <a:rPr b="0" lang="pt-BR" sz="2800" spc="-1" strike="noStrike">
                <a:solidFill>
                  <a:srgbClr val="790571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o Ramal mais próximo de você</a:t>
            </a:r>
            <a:r>
              <a:rPr b="0" lang="pt-BR" sz="2800" spc="-1" strike="noStrike">
                <a:solidFill>
                  <a:srgbClr val="790571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5181480"/>
            <a:ext cx="7162560" cy="642600"/>
          </a:xfrm>
          <a:prstGeom prst="rect">
            <a:avLst/>
          </a:prstGeom>
          <a:noFill/>
          <a:ln w="9360">
            <a:solidFill>
              <a:srgbClr val="7905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Comunique qualquer tipo de acidente o mais rápido possível para aumentar a </a:t>
            </a:r>
            <a:r>
              <a:rPr b="1" lang="pt-BR" sz="1800" spc="-1" strike="noStrike">
                <a:solidFill>
                  <a:srgbClr val="790571"/>
                </a:solidFill>
                <a:latin typeface="Comic Sans MS"/>
              </a:rPr>
              <a:t>eficácia</a:t>
            </a:r>
            <a:r>
              <a:rPr b="1" lang="pt-BR" sz="1800" spc="-1" strike="noStrike">
                <a:solidFill>
                  <a:srgbClr val="000000"/>
                </a:solidFill>
                <a:latin typeface="Comic Sans MS"/>
              </a:rPr>
              <a:t> do atendimento à emergênc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762120"/>
            <a:ext cx="84582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O QUE FAZER EM CASO DE ACI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1. Derramamento de produto quí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mpar o local o mais rapidamente pos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entilar o local: abrir portas e jan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o produto for extremamente tóxico evacuar o local e usar máscara adequada na operação de limp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resíduos da limpeza, papel ou materiais impregnados devem ser descartados como resí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í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76212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2. Princípio de incênd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ão tente ser herói. Chame ajuda imedia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ligar o quadro de energia el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e souber usar o extintor, use-o. Se não souber, não arris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vacue o lo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762120"/>
            <a:ext cx="8001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3. Acidentes com víti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pingo de produto químico na região dos olh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var abundantemente no lava olhos, pelo menos 15 minutos. Manter os olhos da vítima aber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caminhar imediatamente ao mé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Jamais tentar neutralizar 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Respingo em qualquer região do co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tirar a roupa que recobre o local ating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var abundantemente com água, na pia ou no chuveiro de emergência, dependendo da área ating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r pelo menos 15 min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caminhar ao médico, dependendo da gravi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57200" y="762120"/>
            <a:ext cx="7620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o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var o local com água, abund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brir o ferimento com gaze e atadura de cr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caminhar imediatamente ao pronto socor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utros aci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caminhar ao pronto-soco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, chamar o resg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03880" y="2392200"/>
            <a:ext cx="576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DOENÇAS DA P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CAUSADAS 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PRODUTOS QUÍM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2440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Sem título-1" descr=""/>
          <p:cNvPicPr/>
          <p:nvPr/>
        </p:nvPicPr>
        <p:blipFill>
          <a:blip r:embed="rId1"/>
          <a:srcRect l="0" t="3851" r="0" b="3691"/>
          <a:stretch/>
        </p:blipFill>
        <p:spPr>
          <a:xfrm>
            <a:off x="1257480" y="1281240"/>
            <a:ext cx="3124080" cy="2585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297" name=""/>
          <p:cNvSpPr/>
          <p:nvPr/>
        </p:nvSpPr>
        <p:spPr>
          <a:xfrm>
            <a:off x="1219320" y="4076640"/>
            <a:ext cx="320040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Vitiligo Ocupacional causado pelo monobentil éter de hidroquinona (MBEH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244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Sem título-4" descr=""/>
          <p:cNvPicPr/>
          <p:nvPr/>
        </p:nvPicPr>
        <p:blipFill>
          <a:blip r:embed="rId2"/>
          <a:srcRect l="0" t="2946" r="3454" b="29300"/>
          <a:stretch/>
        </p:blipFill>
        <p:spPr>
          <a:xfrm>
            <a:off x="4876920" y="1257480"/>
            <a:ext cx="3200400" cy="26478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238400" y="743040"/>
            <a:ext cx="3181320" cy="419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ustria de Borra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76920" y="4114800"/>
            <a:ext cx="312408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rmatite alérgica de contato em pedreiro polissensiblizado a cromato, aceleradores de borracha e tópicos (sulfa, furacin e prometazi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57840" y="762120"/>
            <a:ext cx="320040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ustria da Galvanoplas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4336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Sem título-3" descr=""/>
          <p:cNvPicPr/>
          <p:nvPr/>
        </p:nvPicPr>
        <p:blipFill>
          <a:blip r:embed="rId1"/>
          <a:srcRect l="2971" t="0" r="6545" b="5614"/>
          <a:stretch/>
        </p:blipFill>
        <p:spPr>
          <a:xfrm>
            <a:off x="1314360" y="1409760"/>
            <a:ext cx="2895840" cy="25909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5" name=""/>
          <p:cNvSpPr/>
          <p:nvPr/>
        </p:nvSpPr>
        <p:spPr>
          <a:xfrm>
            <a:off x="352440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Sem título-2" descr=""/>
          <p:cNvPicPr/>
          <p:nvPr/>
        </p:nvPicPr>
        <p:blipFill>
          <a:blip r:embed="rId2"/>
          <a:srcRect l="2325" t="0" r="0" b="0"/>
          <a:stretch/>
        </p:blipFill>
        <p:spPr>
          <a:xfrm>
            <a:off x="5334120" y="1371600"/>
            <a:ext cx="3200400" cy="2666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1295280" y="838080"/>
            <a:ext cx="297180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ustria de 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34120" y="838080"/>
            <a:ext cx="312408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ustria de 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52520" y="4133880"/>
            <a:ext cx="281952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 contato freqüente com massa de cimento causou alergia severa, comprometendo os membros inferiores e superiores do trabalh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191120"/>
            <a:ext cx="3200400" cy="112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rmatite alérgica de contato em pedreiro polissensiblizado a cromato, aceleradores de borracha e tópicos (sulfa, furacin e prometazi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89120" y="2133720"/>
            <a:ext cx="7565760" cy="74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9120" y="1066680"/>
            <a:ext cx="7565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de perigo em embalagens é feita através de etiquetas, uma ferramenta essencial para informação sobre o grau de perigo de uma substância química, o que ela representa para o homem, o ambiente, e as ações preventivas de um uso seguro e correto para evitar acident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g2" descr=""/>
          <p:cNvPicPr/>
          <p:nvPr/>
        </p:nvPicPr>
        <p:blipFill>
          <a:blip r:embed="rId1"/>
          <a:stretch/>
        </p:blipFill>
        <p:spPr>
          <a:xfrm>
            <a:off x="3594240" y="3448080"/>
            <a:ext cx="1892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295280" y="838080"/>
            <a:ext cx="320040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Industrias Metarlúr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244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Sem título-5" descr=""/>
          <p:cNvPicPr/>
          <p:nvPr/>
        </p:nvPicPr>
        <p:blipFill>
          <a:blip r:embed="rId1"/>
          <a:srcRect l="0" t="0" r="11627" b="0"/>
          <a:stretch/>
        </p:blipFill>
        <p:spPr>
          <a:xfrm>
            <a:off x="1295280" y="1447920"/>
            <a:ext cx="3276720" cy="2093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14" name=""/>
          <p:cNvSpPr/>
          <p:nvPr/>
        </p:nvSpPr>
        <p:spPr>
          <a:xfrm>
            <a:off x="1219320" y="3657600"/>
            <a:ext cx="3352680" cy="17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rmatite alérgica de contato (DAC) por óleo de corte solúvel. Trabalhador em torno revólver sofreu arranhões por farpas metálicas, que resultou em lesões linerares vesiculosas e prurigonosas. Teste epicutâneos positivos com óleo solúvel puro e diluído a 50% em óleo de oliv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244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Sem título-6" descr=""/>
          <p:cNvPicPr/>
          <p:nvPr/>
        </p:nvPicPr>
        <p:blipFill>
          <a:blip r:embed="rId2"/>
          <a:srcRect l="2501" t="4030" r="2501" b="8866"/>
          <a:stretch/>
        </p:blipFill>
        <p:spPr>
          <a:xfrm>
            <a:off x="5181480" y="1523880"/>
            <a:ext cx="2895840" cy="2057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5105520" y="914400"/>
            <a:ext cx="297180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dustria de Extração de 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3772080"/>
            <a:ext cx="289584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itíriase versicolor comprometendo tronco e membros superiores. O quadro é pruriginoso, o que é comum nesta dermat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Sem título-7" descr=""/>
          <p:cNvPicPr/>
          <p:nvPr/>
        </p:nvPicPr>
        <p:blipFill>
          <a:blip r:embed="rId1"/>
          <a:srcRect l="2774" t="0" r="2732" b="1611"/>
          <a:stretch/>
        </p:blipFill>
        <p:spPr>
          <a:xfrm>
            <a:off x="3238560" y="1371600"/>
            <a:ext cx="2795400" cy="3124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0" name=""/>
          <p:cNvSpPr/>
          <p:nvPr/>
        </p:nvSpPr>
        <p:spPr>
          <a:xfrm>
            <a:off x="3276720" y="762120"/>
            <a:ext cx="2606400" cy="3808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dustria de Fibra de Vi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38560" y="4743360"/>
            <a:ext cx="27432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rmatite de contato pela fibra de vidro (DCFV). Observe lesões de aspecto purpúrico no tronco e flanco do trabalhad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608120" y="2392200"/>
            <a:ext cx="592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GRANDES ACIDEN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ENVOLV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PRODUTOS QUÍM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bhopal~1" descr=""/>
          <p:cNvPicPr/>
          <p:nvPr/>
        </p:nvPicPr>
        <p:blipFill>
          <a:blip r:embed="rId1"/>
          <a:stretch/>
        </p:blipFill>
        <p:spPr>
          <a:xfrm>
            <a:off x="838080" y="668160"/>
            <a:ext cx="7620120" cy="5367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990720" y="1219320"/>
            <a:ext cx="456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03/12/84 - Bhopal, Í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4000 mortes, 200.000 intox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304920" y="762120"/>
          <a:ext cx="83818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3818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304920" y="762120"/>
          <a:ext cx="85341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800280"/>
            <a:ext cx="77724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 que se opõe ao descuido e ao descaso é o cuidado. Cuidar é mais que um ato: é uma atitude. Portanto, abrange mais que um momento de atenção, de zelo e de desvelo. Representa uma atitude de ocupação, preocupação, de responsabilização e de envolvimento afetivo com o outro.” (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onardo Boff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8580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40" y="1066680"/>
            <a:ext cx="83059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ão produtos de transformação obtidos por   meio   de processo industrial, constituídos de substâncias puras, compostas e mis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dem ser naturais ou sintét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Arial"/>
              </a:rPr>
              <a:t>PRODUTOS NAT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ão obtidos de produtos encontrados na nature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3300"/>
                </a:solidFill>
                <a:latin typeface="Arial"/>
              </a:rPr>
              <a:t>PRODUTOS SINT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São obtidos artificialmente através da síntese de outros produ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790571"/>
                </a:solidFill>
                <a:latin typeface="Tahoma"/>
              </a:rPr>
              <a:t>CONC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795320"/>
            <a:ext cx="40384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66"/>
                </a:solidFill>
                <a:latin typeface="Tahoma"/>
              </a:rPr>
              <a:t>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É a probabilidade de ocorrer um evento bem definido no espaço e no tempo, que causa dano à saúde, às unidades operacionais ou dano econômico/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1795320"/>
            <a:ext cx="40384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66"/>
                </a:solidFill>
                <a:latin typeface="Tahoma"/>
              </a:rPr>
              <a:t>Pe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É a expressão de uma qualidade ambiental que apresente características de possível efeito maléfico para a saúde e/ou me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41972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a presença de um perigo não existe risco zero, porém existe a possibilidade de minimizá-lo ou alterá-lo para níveis considerados aceitáv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7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Risco inerente vs Risco efe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isco ine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aracterístico da substância. Está relacionado com as propriedades químicas e físicas da mes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isco efetiv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probabilidade de contato com a substância. Está diretamente relacionado com as condições de trabalho com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gente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Da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onseqüência da concretização do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760" y="1295280"/>
            <a:ext cx="861048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Produtos Químicos Perigos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– São os produtos químicos classificados como perigosos, ou, produtos cujas informações indicam que se trata de material de risc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352680"/>
            <a:ext cx="82296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66"/>
                </a:solidFill>
                <a:latin typeface="Comic Sans MS"/>
              </a:rPr>
              <a:t>Riscos Químicos</a:t>
            </a: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 (substâncias, compostos ou produtos que podem penetrar no organismo por via respiratória, absorvidos pela pele ou por ingestão, na forma de gases, vapores, neblinas, poeiras ou fumos  (NR-09, NR-15). Avaliação quantitativa e quali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837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s produtos químicos como fatores de r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6019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s substâncias químicas podem ser agrupadas, segundo suas características de periculosidade, 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352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sfixiantes          tóxicos                 carcinogê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plosivos          corrosivos            mutagê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burentes       irritantes              alergê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flamáveis         danosos a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e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5240" y="1349280"/>
            <a:ext cx="25783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24000" y="60948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LASS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40652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1 - Explosiv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stâncias que podem explodir sob efeito de calor, choque ou fricção. As temperaturas de detonação são muito variáveis. Certas substâncias formam misturas explosivas com outras. Por exemplo: cloratos com certos materiais combustíveis. Outras tornam-se explosivas em determinadas concentrações. Ex: ácido perclórico a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10220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lasse 2 - G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e estão divididos 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ses Inflamáve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ses não Inflamáve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ses Tóx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4734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00:25:19Z</dcterms:created>
  <dc:creator>Letícia Boechat</dc:creator>
  <dc:description/>
  <dc:language>en-US</dc:language>
  <cp:lastModifiedBy>Osmar Junior</cp:lastModifiedBy>
  <dcterms:modified xsi:type="dcterms:W3CDTF">2006-05-26T10:31:35Z</dcterms:modified>
  <cp:revision>65</cp:revision>
  <dc:subject/>
  <dc:title>Associação Brasileira de Prevenção de Acidentes  Trabalhador saudável – Paciente vivo  NR 32 – Segurança e Saúde no Trabalho em Serviços de Saúde </dc:title>
</cp:coreProperties>
</file>