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E973-859C-4845-A1ED-F509F2A7096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B16B-6836-461C-BA1C-7CC34981C9C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28600" y="266760"/>
            <a:ext cx="6400800" cy="42670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6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9B21-8387-4BEC-8C51-45D297B28AF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28600" y="266760"/>
            <a:ext cx="6400800" cy="42670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6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5A4-3435-400B-9A6C-0AF34AEF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2361960"/>
            <a:ext cx="90010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8520" y="4312080"/>
            <a:ext cx="90010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FD4-C701-4340-A0E1-62E438D6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520" y="2361960"/>
            <a:ext cx="439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40840" y="2361960"/>
            <a:ext cx="439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520" y="4312080"/>
            <a:ext cx="439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40840" y="4312080"/>
            <a:ext cx="439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C21-0F00-4924-9053-A81A7ECB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2361960"/>
            <a:ext cx="2898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71960" y="2361960"/>
            <a:ext cx="2898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15040" y="2361960"/>
            <a:ext cx="2898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8520" y="4312080"/>
            <a:ext cx="2898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71960" y="4312080"/>
            <a:ext cx="2898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15040" y="4312080"/>
            <a:ext cx="2898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436-017D-4633-8D62-A067C037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0148-5809-4BF4-82E4-49159C52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8520" y="2361960"/>
            <a:ext cx="90010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19CD-839E-4F65-8880-B51EB094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28520" y="2361960"/>
            <a:ext cx="9001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6C88-93E9-453A-9BE8-264873D6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8520" y="2361960"/>
            <a:ext cx="4392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40840" y="2361960"/>
            <a:ext cx="4392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1B08-4539-4955-81D4-6F494791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E532-F886-4BBB-B3A7-F46D4A5B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14440" y="273600"/>
            <a:ext cx="92595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F98D-E6A9-484F-862C-8E72713E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8520" y="2361960"/>
            <a:ext cx="439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40840" y="2361960"/>
            <a:ext cx="4392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28520" y="4312080"/>
            <a:ext cx="439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FCB4-14E0-4B32-A2E9-E1D1F7FF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8520" y="2361960"/>
            <a:ext cx="90010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D5B-C453-465F-831D-2D50527C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520" y="2361960"/>
            <a:ext cx="4392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40840" y="2361960"/>
            <a:ext cx="439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40840" y="4312080"/>
            <a:ext cx="439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6116-9029-49D1-8AC3-556D8BE0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8520" y="2361960"/>
            <a:ext cx="439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40840" y="2361960"/>
            <a:ext cx="439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28520" y="4312080"/>
            <a:ext cx="90010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9709-3A99-4199-8CD5-8687D8C3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8520" y="2361960"/>
            <a:ext cx="90010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28520" y="4312080"/>
            <a:ext cx="90010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6F49-CA9F-4F7F-81D3-6B3BE8C9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520" y="2361960"/>
            <a:ext cx="439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40840" y="2361960"/>
            <a:ext cx="439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28520" y="4312080"/>
            <a:ext cx="439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40840" y="4312080"/>
            <a:ext cx="439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D6BC-59FF-4D4C-BD20-A7164A2E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8520" y="2361960"/>
            <a:ext cx="2898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71960" y="2361960"/>
            <a:ext cx="2898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115040" y="2361960"/>
            <a:ext cx="2898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28520" y="4312080"/>
            <a:ext cx="2898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071960" y="4312080"/>
            <a:ext cx="2898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115040" y="4312080"/>
            <a:ext cx="2898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6C1F-8A25-4ED5-A8E7-F84583A3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8520" y="2361960"/>
            <a:ext cx="9001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033-47A0-45BC-8BF6-945F42F6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8520" y="2361960"/>
            <a:ext cx="4392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40840" y="2361960"/>
            <a:ext cx="4392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5B92-28F2-43ED-9295-B2D072F2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858-78F2-4DD5-8036-092A7CC2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273600"/>
            <a:ext cx="92595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E61-495A-454E-B645-FE559908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520" y="2361960"/>
            <a:ext cx="439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40840" y="2361960"/>
            <a:ext cx="4392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8520" y="4312080"/>
            <a:ext cx="439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937-04FF-4418-97D5-5864966B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8520" y="2361960"/>
            <a:ext cx="4392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840" y="2361960"/>
            <a:ext cx="439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40840" y="4312080"/>
            <a:ext cx="439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1F4-41AF-4C41-A02B-E14FC750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8520" y="2361960"/>
            <a:ext cx="439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840" y="2361960"/>
            <a:ext cx="439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8520" y="4312080"/>
            <a:ext cx="90010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395-12EB-4AAE-9390-5602A28E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28520" y="2361960"/>
            <a:ext cx="9001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886520" y="6550560"/>
            <a:ext cx="21430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303720" y="6526800"/>
            <a:ext cx="3257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5400" y="5946840"/>
            <a:ext cx="66024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0D50-5F90-45FD-9CB4-F2F33FFED1B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10533" t="4863" r="23467" b="83706"/>
          <a:stretch/>
        </p:blipFill>
        <p:spPr>
          <a:xfrm>
            <a:off x="0" y="6477120"/>
            <a:ext cx="10287000" cy="3808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507000"/>
            <a:ext cx="9944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erviço Especializado em Eng. de Segurança e em Medicina do Trabalho - SESMT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514368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1480" y="990720"/>
            <a:ext cx="5829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086000" y="4889520"/>
            <a:ext cx="5486400" cy="318960"/>
            <a:chOff x="4086000" y="4889520"/>
            <a:chExt cx="5486400" cy="318960"/>
          </a:xfrm>
        </p:grpSpPr>
        <p:sp>
          <p:nvSpPr>
            <p:cNvPr id="45" name=""/>
            <p:cNvSpPr/>
            <p:nvPr/>
          </p:nvSpPr>
          <p:spPr>
            <a:xfrm flipH="1">
              <a:off x="4085640" y="4889520"/>
              <a:ext cx="52038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279720" y="4889520"/>
              <a:ext cx="2926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000240" y="6550560"/>
            <a:ext cx="21434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5845320" y="6550560"/>
            <a:ext cx="3689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11160" y="5962320"/>
            <a:ext cx="66024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E3A0-03D3-42C7-89AC-329E490EEB6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1053720" y="1425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1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76080" y="2419200"/>
            <a:ext cx="7284240" cy="1789560"/>
          </a:xfrm>
          <a:prstGeom prst="rect">
            <a:avLst/>
          </a:prstGeom>
          <a:solidFill>
            <a:srgbClr val="99cc99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99cc99"/>
                </a:solidFill>
                <a:latin typeface="Arial"/>
              </a:rPr>
              <a:t>CIPA - NR5</a:t>
            </a:r>
            <a:endParaRPr b="0" lang="en-US" sz="10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503520" y="913320"/>
            <a:ext cx="31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4800"/>
                </a:solidFill>
                <a:latin typeface="Times New Roman"/>
              </a:rPr>
              <a:t>Organiz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054880"/>
            <a:ext cx="9772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6699"/>
                </a:solidFill>
                <a:latin typeface="Times New Roman"/>
              </a:rPr>
              <a:t>• </a:t>
            </a:r>
            <a:r>
              <a:rPr b="1" lang="pt-BR" sz="2800" spc="-1" strike="noStrike">
                <a:solidFill>
                  <a:srgbClr val="666699"/>
                </a:solidFill>
                <a:latin typeface="Times New Roman"/>
              </a:rPr>
              <a:t>Duração do mandato dos membros eleit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666699"/>
                </a:solidFill>
                <a:latin typeface="Times New Roman"/>
              </a:rPr>
              <a:t>Presiden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666699"/>
                </a:solidFill>
                <a:latin typeface="Times New Roman"/>
              </a:rPr>
              <a:t>Vice-Presiden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666699"/>
                </a:solidFill>
                <a:latin typeface="Times New Roman"/>
              </a:rPr>
              <a:t>Secretário(a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666699"/>
                </a:solidFill>
                <a:latin typeface="Times New Roman"/>
              </a:rPr>
              <a:t>Pos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6699"/>
                </a:solidFill>
                <a:latin typeface="Times New Roman"/>
              </a:rPr>
              <a:t>Redução ou desativação da CIP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666699"/>
                </a:solidFill>
                <a:latin typeface="Times New Roman"/>
              </a:rPr>
              <a:t>Renúncia do cargo de membro de CIP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flipH="1" rot="10800000">
            <a:off x="380880" y="304200"/>
            <a:ext cx="17240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1066680"/>
            <a:ext cx="8991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4800"/>
                </a:solidFill>
                <a:latin typeface="Arial"/>
              </a:rPr>
              <a:t>Organograma da CIPA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71360" y="2165400"/>
            <a:ext cx="8829000" cy="3549240"/>
            <a:chOff x="171360" y="2165400"/>
            <a:chExt cx="8829000" cy="3549240"/>
          </a:xfrm>
        </p:grpSpPr>
        <p:sp>
          <p:nvSpPr>
            <p:cNvPr id="138" name=""/>
            <p:cNvSpPr/>
            <p:nvPr/>
          </p:nvSpPr>
          <p:spPr>
            <a:xfrm>
              <a:off x="171360" y="4920480"/>
              <a:ext cx="2400120" cy="794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07932" dir="81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1360" y="5028840"/>
              <a:ext cx="24001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</a:rPr>
                <a:t>REPRESENTANT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</a:rPr>
                <a:t>DA EMPRESA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28880" y="4920480"/>
              <a:ext cx="2334240" cy="794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07932" dir="81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00360" y="4920480"/>
              <a:ext cx="2219760" cy="794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07932" dir="81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57600" y="5004720"/>
              <a:ext cx="247140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</a:rPr>
                <a:t>REPRESENTANT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</a:rPr>
                <a:t>DOS EMPREGADO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00360" y="5173200"/>
              <a:ext cx="222156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</a:rPr>
                <a:t>DESIGNADO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64360" y="3476520"/>
              <a:ext cx="2221560" cy="793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107932" dir="81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64360" y="3584880"/>
              <a:ext cx="222156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</a:rPr>
                <a:t>VICE-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</a:rPr>
                <a:t>PRESIDÊNCIA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22000" y="2165400"/>
              <a:ext cx="2221200" cy="793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107932" dir="81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440" y="2381760"/>
              <a:ext cx="228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</a:rPr>
                <a:t>PRESIDÊNCIA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229000" y="2959200"/>
              <a:ext cx="0" cy="16480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82320" y="3885480"/>
              <a:ext cx="34632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85560" y="4619520"/>
              <a:ext cx="771480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285560" y="4628520"/>
              <a:ext cx="0" cy="28836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514920" y="4619520"/>
              <a:ext cx="0" cy="28872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7886880" y="4921200"/>
            <a:ext cx="2219040" cy="793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86880" y="5181480"/>
            <a:ext cx="22287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SECRETÁRIA(O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9001080" y="4587480"/>
            <a:ext cx="0" cy="28908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943440" y="4258800"/>
            <a:ext cx="0" cy="28908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1219320" y="2362320"/>
            <a:ext cx="8183160" cy="3641760"/>
            <a:chOff x="1219320" y="2362320"/>
            <a:chExt cx="8183160" cy="3641760"/>
          </a:xfrm>
        </p:grpSpPr>
        <p:sp>
          <p:nvSpPr>
            <p:cNvPr id="158" name=""/>
            <p:cNvSpPr/>
            <p:nvPr/>
          </p:nvSpPr>
          <p:spPr>
            <a:xfrm>
              <a:off x="1219320" y="3124440"/>
              <a:ext cx="8097480" cy="287964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) - Identificar os riscos dos processos de trabalho, e elaborar mapa de riscos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05000" y="2362320"/>
              <a:ext cx="8097480" cy="53964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TRIBUIÇÕES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 txBox="1"/>
          <p:nvPr/>
        </p:nvSpPr>
        <p:spPr>
          <a:xfrm>
            <a:off x="-304920" y="1258920"/>
            <a:ext cx="7972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ATRIBUIÇÕES  DA  CIPA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19320" y="2286000"/>
            <a:ext cx="8183160" cy="3642840"/>
            <a:chOff x="1219320" y="2286000"/>
            <a:chExt cx="8183160" cy="3642840"/>
          </a:xfrm>
        </p:grpSpPr>
        <p:sp>
          <p:nvSpPr>
            <p:cNvPr id="162" name=""/>
            <p:cNvSpPr/>
            <p:nvPr/>
          </p:nvSpPr>
          <p:spPr>
            <a:xfrm>
              <a:off x="1219320" y="3048120"/>
              <a:ext cx="8097480" cy="288072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) - elaborar plano de trabalho - ação preventiva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05000" y="2286000"/>
              <a:ext cx="8097480" cy="53964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ATRIBUIÇÕES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219320" y="2286000"/>
            <a:ext cx="8183160" cy="3642840"/>
            <a:chOff x="1219320" y="2286000"/>
            <a:chExt cx="8183160" cy="3642840"/>
          </a:xfrm>
        </p:grpSpPr>
        <p:sp>
          <p:nvSpPr>
            <p:cNvPr id="165" name=""/>
            <p:cNvSpPr/>
            <p:nvPr/>
          </p:nvSpPr>
          <p:spPr>
            <a:xfrm>
              <a:off x="1219320" y="3048120"/>
              <a:ext cx="8097480" cy="288072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) - Participar da implementação e do controle da qualidade das medidas de prevenção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05000" y="2286000"/>
              <a:ext cx="8097480" cy="53964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ATRIBUIÇÕES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219320" y="2286000"/>
            <a:ext cx="8183160" cy="3642840"/>
            <a:chOff x="1219320" y="2286000"/>
            <a:chExt cx="8183160" cy="3642840"/>
          </a:xfrm>
        </p:grpSpPr>
        <p:sp>
          <p:nvSpPr>
            <p:cNvPr id="168" name=""/>
            <p:cNvSpPr/>
            <p:nvPr/>
          </p:nvSpPr>
          <p:spPr>
            <a:xfrm>
              <a:off x="1219320" y="3048120"/>
              <a:ext cx="8097480" cy="288072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) - realizar periodicamente inspeções e a cada reunião avaliar o cumprimento do plano de trabalho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05000" y="2286000"/>
              <a:ext cx="8097480" cy="53964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ATRIBUIÇÕES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219320" y="2209680"/>
            <a:ext cx="8183160" cy="3643200"/>
            <a:chOff x="1219320" y="2209680"/>
            <a:chExt cx="8183160" cy="3643200"/>
          </a:xfrm>
        </p:grpSpPr>
        <p:sp>
          <p:nvSpPr>
            <p:cNvPr id="171" name=""/>
            <p:cNvSpPr/>
            <p:nvPr/>
          </p:nvSpPr>
          <p:spPr>
            <a:xfrm>
              <a:off x="1219320" y="2972160"/>
              <a:ext cx="8097480" cy="288072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) - divulgar aos trabalhadores informações relativas à segurança e saúde do trabalhador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05000" y="2209680"/>
              <a:ext cx="8097480" cy="53964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ATRIBUIÇÕES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19320" y="2209680"/>
            <a:ext cx="8183160" cy="3643200"/>
            <a:chOff x="1219320" y="2209680"/>
            <a:chExt cx="8183160" cy="3643200"/>
          </a:xfrm>
        </p:grpSpPr>
        <p:sp>
          <p:nvSpPr>
            <p:cNvPr id="174" name=""/>
            <p:cNvSpPr/>
            <p:nvPr/>
          </p:nvSpPr>
          <p:spPr>
            <a:xfrm>
              <a:off x="1219320" y="2972160"/>
              <a:ext cx="8097480" cy="288072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) - Colaborar no desenvolvimento e implementação do PPRA e PCMSO e outros programas de seguranç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05000" y="2209680"/>
              <a:ext cx="8097480" cy="53964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ATRIBUIÇÕES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219320" y="2209680"/>
            <a:ext cx="8183160" cy="3643200"/>
            <a:chOff x="1219320" y="2209680"/>
            <a:chExt cx="8183160" cy="3643200"/>
          </a:xfrm>
        </p:grpSpPr>
        <p:sp>
          <p:nvSpPr>
            <p:cNvPr id="177" name=""/>
            <p:cNvSpPr/>
            <p:nvPr/>
          </p:nvSpPr>
          <p:spPr>
            <a:xfrm>
              <a:off x="1219320" y="2972160"/>
              <a:ext cx="8097480" cy="288072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) - Participar da análise das causas das doenças e acidentes do trabalho e propor medidas corretivas e preventivas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05000" y="2209680"/>
              <a:ext cx="8097480" cy="53964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ATRIBUIÇÕES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295280" y="2133720"/>
            <a:ext cx="8183160" cy="3641760"/>
            <a:chOff x="1295280" y="2133720"/>
            <a:chExt cx="8183160" cy="3641760"/>
          </a:xfrm>
        </p:grpSpPr>
        <p:sp>
          <p:nvSpPr>
            <p:cNvPr id="180" name=""/>
            <p:cNvSpPr/>
            <p:nvPr/>
          </p:nvSpPr>
          <p:spPr>
            <a:xfrm>
              <a:off x="1295280" y="2895840"/>
              <a:ext cx="8097480" cy="287964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) - Promover anualmente a SIPA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80960" y="2133720"/>
              <a:ext cx="8097480" cy="53964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ATRIBUIÇÕES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432960" y="685440"/>
            <a:ext cx="42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4800"/>
                </a:solidFill>
                <a:latin typeface="Times New Roman"/>
              </a:rPr>
              <a:t>Funcionament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481040"/>
            <a:ext cx="10058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52600" indent="-4572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uniões ordinárias, em expediente normal 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526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local apropriad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526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tas assinadas pelos presentes, encaminhamento  de cópias para todos os membros (com recibo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526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52600" indent="-4572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s atas ficarão no estabelecimento à disposição dos  Agentes da Inspeção do Trabalho – AIT (MT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526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52600" indent="-4572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uniões extraordinárias  - quando houver denúncia de situação de risco grave ou iminente e/ou ocorrer acidente de trabalho grave ou fatal e / ou solicitação expressa de uma das representaçõ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526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52600" indent="-4572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s decisões da CIPA serão preferencialmente por consens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534520" y="1003320"/>
            <a:ext cx="158112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745000" y="98964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4800"/>
                </a:solidFill>
                <a:latin typeface="Times New Roman"/>
              </a:rPr>
              <a:t>Treinamento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686800" y="998640"/>
            <a:ext cx="1209600" cy="1058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71360" y="1964520"/>
            <a:ext cx="977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Wingdings"/>
                <a:ea typeface="Wingdings"/>
              </a:rPr>
              <a:t></a:t>
            </a: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A empresa deverá promover treinamento para os membros da CIPA, titulares e suplentes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400" y="3198600"/>
            <a:ext cx="8362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5400"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O treinamento deve ser anual, dado para todo nov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mandato e para todos os membros bem como para 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Designado Responsável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738320"/>
            <a:ext cx="10287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Wingdings"/>
                <a:ea typeface="Wingdings"/>
              </a:rPr>
              <a:t></a:t>
            </a: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As empresas que não se enquadrarem no Quadro I,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promoverão anualmente treinamento para o Design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Responsável pelo cumprimento do objetivo desta N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19920" y="653400"/>
            <a:ext cx="477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4800"/>
                </a:solidFill>
                <a:latin typeface="Times New Roman"/>
              </a:rPr>
              <a:t>Processo Eleitoral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371600"/>
            <a:ext cx="99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Convocação das eleições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(mínimo 60 dias item 5.38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610480" y="1023840"/>
            <a:ext cx="1438560" cy="881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3520" y="18288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Constituição da C.E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(55 dias item 5.39)</a:t>
            </a:r>
            <a:r>
              <a:rPr b="1" i="1" lang="en-US" sz="2400" spc="-1" strike="noStrike">
                <a:solidFill>
                  <a:srgbClr val="0066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2286000"/>
            <a:ext cx="9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Inscrição de candidatos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(45 dias item 5.40b – prazo 15 dias)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2682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Realização da eleição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(30 dias item 5.40e)</a:t>
            </a: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8880" y="3124080"/>
            <a:ext cx="62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Horário de realização e apuração da eleiçã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160" y="3567240"/>
            <a:ext cx="62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Arquivo dos documentos referente à eleiçã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4240" y="4038480"/>
            <a:ext cx="33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Garantia de empreg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4600" y="4495680"/>
            <a:ext cx="30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Validade da eleiçã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5029200"/>
            <a:ext cx="83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Condição de membros titulares e suplentes</a:t>
            </a:r>
            <a:r>
              <a:rPr b="1" i="1" lang="en-US" sz="2400" spc="-1" strike="noStrike">
                <a:solidFill>
                  <a:srgbClr val="6666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5680" y="548640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Em caso de empate</a:t>
            </a:r>
            <a:r>
              <a:rPr b="1" i="1" lang="en-US" sz="2400" spc="-1" strike="noStrike">
                <a:solidFill>
                  <a:srgbClr val="006666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4240" y="59436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Os candidatos votados e não eleitos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52280" y="1143000"/>
            <a:ext cx="10134720" cy="5266440"/>
          </a:xfrm>
          <a:prstGeom prst="rect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1 – As empresas privadas e públicas, sociedades de economia mista, órgãos da administração direta e indireta, instituições beneficentes, associações recreativas, cooperativas, bem como outras instituições que admitam trabalhadores como empregados deverão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ff9900"/>
              </a:buClr>
              <a:buFont typeface="Symbol" charset="2"/>
              <a:buChar char="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Constituir CIPA, por estabelecimento e mantê-la em regular funcionamento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(Item 5.2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2 – De acordo com o Quadro I, como será dimensionada a CIPA de uma empresa  classificada no grupo C-17, Produção e Distribuição de Energia Elétrica, tendo a mesma 101 empregados no estabelecimento?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ff9900"/>
              </a:buClr>
              <a:buFont typeface="Symbol" charset="2"/>
              <a:buChar char="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Composta por 4 representantes titulares  do empregador, 4 representantes titulares dos empregados, 3 suplentes do empregador e 3 suplentes dos empregados; (quadro I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ff9900"/>
              </a:buClr>
              <a:buFont typeface="Symbol" charset="2"/>
              <a:buChar char="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Nota: Não haverá suplência específica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3 – Em Uma empresa que tiver no mesmo município dois estabelecimentos, um com mais de 20 empregados (c-17) e outro com menos de 20, a CIPA será composta por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(   )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representantes dos empregados, do empregador , convidados e  empreiteiras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(   ) </a:t>
            </a: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representantes do empregador e dos empregados;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 ) </a:t>
            </a: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representantes do empregador, dos empregados e designados;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(item 5.6 e 5.6.4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8760" y="144360"/>
            <a:ext cx="942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R5 - COMISSÃO INTERNA DE PREVENÇÃO DE ACIDENTES - CIP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05040" y="1227240"/>
            <a:ext cx="9686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4 – Os membros titulares da CIPA,  designados pelo empregador,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poderão ser reconduzidos para quantos mandatos consecutivos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(   ) 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03 manda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(   ) 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02 manda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(   ) 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01 mandat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 ) 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Tempo indeterminado (item 5.7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5 – Qual o prazo para a convocação pelo empregador para eleição do novo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mandato da CIPA?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) 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prazo mínimo de 60 dias antes do término do mandato em curso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(   ) 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prazo mínimo de 40 dias antes do término do mandato em curso;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(   ) 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prazo mínimo de 45 dias antes do término do mandato em curso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(   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) prazo mínimo de 30 dias antes do término do mandato em curso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(item 5.38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6 – O mandato dos membros eleitos da CIPA terá a duração de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quanto tempo?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ff9900"/>
              </a:buClr>
              <a:buFont typeface="Symbol" charset="2"/>
              <a:buChar char="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01(um) ano. (item 5.7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8760" y="144360"/>
            <a:ext cx="942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NR5 - COMISSÃO INTERNA DE PREVENÇÃO DE ACIDENTES - CIP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857160" y="1698480"/>
            <a:ext cx="9429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 – Será permitida ao membro eleito quantas reeleições?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   )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02 reeleiçõe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   )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03 reeleiçõe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01 reeleição; (item 5.7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8 – O membro titular perderá o mandato, quando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)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altar a mais de 4 reuniões ordinárias sem justificativas; (item 5.30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   )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altar a mais de 3 reuniões ordinárias sem justificativas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   )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altar a mais de 4 reuniões extraordinárias sem justificativa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9 – O Presidente da CIPA será designado por quem, e entre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quais representantes?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ff9900"/>
              </a:buClr>
              <a:buFont typeface="Symbol" charset="2"/>
              <a:buChar char="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erá designado anualmente pelo empregador, dentre os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eus representantes titulares. (item 5.11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8760" y="144360"/>
            <a:ext cx="942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NR5 - COMISSÃO INTERNA DE PREVENÇÃO DE ACIDENTES - CIP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38080" y="1155600"/>
            <a:ext cx="9601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10 – O Vice-Presidente da CIPA será designado por quem, e entre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quais representantes?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482760">
              <a:lnSpc>
                <a:spcPct val="100000"/>
              </a:lnSpc>
              <a:buClr>
                <a:srgbClr val="ff9900"/>
              </a:buClr>
              <a:buFont typeface="Symbol" charset="2"/>
              <a:buChar char="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Será escolhido pelos representantes dos empregados, dentre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48276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os seus titulares. (item 5.12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11 – O suplente assumirá como membro titular nas condições a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seguir discriminadas. Marque as duas alternativas corretas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1" lang="pt-BR" sz="1800" spc="-1" strike="noStrike">
                <a:solidFill>
                  <a:srgbClr val="ff9900"/>
                </a:solidFill>
                <a:latin typeface="Times New Roman"/>
              </a:rPr>
              <a:t>)</a:t>
            </a:r>
            <a:r>
              <a:rPr b="1" lang="pt-BR" sz="18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Quando tiver participado de mais de quatro reuniões ordinárias da CIPA,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como substituto do titular, que faltou por motivo não justificado 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previamente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1" lang="pt-BR" sz="1800" spc="-1" strike="noStrike">
                <a:solidFill>
                  <a:srgbClr val="ff9900"/>
                </a:solidFill>
                <a:latin typeface="Times New Roman"/>
              </a:rPr>
              <a:t>)</a:t>
            </a:r>
            <a:r>
              <a:rPr b="1" lang="pt-BR" sz="18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Quando tiver participado de mais de três reuniões extraordinárias da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CIPA, como substituto do titular, que faltou por motivo não justificado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previamente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pt-BR" sz="1800" spc="-1" strike="noStrike">
                <a:solidFill>
                  <a:srgbClr val="ff9900"/>
                </a:solidFill>
                <a:latin typeface="Times New Roman"/>
              </a:rPr>
              <a:t>)</a:t>
            </a:r>
            <a:r>
              <a:rPr b="1" lang="pt-BR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Quando ocorrer cessação do contrato de trabalho do membro titular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D</a:t>
            </a:r>
            <a:r>
              <a:rPr b="1" lang="pt-BR" sz="1800" spc="-1" strike="noStrike">
                <a:solidFill>
                  <a:srgbClr val="ff9900"/>
                </a:solidFill>
                <a:latin typeface="Times New Roman"/>
              </a:rPr>
              <a:t>)</a:t>
            </a:r>
            <a:r>
              <a:rPr b="1" lang="pt-BR" sz="18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Quando o membro titular tirar licença médica por mais de 02 mes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(item 5.30 e 5.31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2840" y="3600360"/>
            <a:ext cx="428760" cy="3621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942840" y="3600360"/>
            <a:ext cx="343080" cy="3621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2840" y="5276880"/>
            <a:ext cx="428760" cy="3618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914400" y="5276520"/>
            <a:ext cx="343080" cy="3618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8760" y="144360"/>
            <a:ext cx="942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NR5 - COMISSÃO INTERNA DE PREVENÇÃO DE ACIDENTES - CIP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95280" y="838080"/>
            <a:ext cx="821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NR5 - COMISSÃO INTERNA DE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PREVENÇÃO DE ACIDENTES - CIP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809640" y="1165320"/>
            <a:ext cx="9858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12 –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Preencha as lacunas de acordo com os parênteses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A)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 CIPA  deverá elaborar                                  que possibilite a ação 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preventiva  na solução de problemas de segurança e saúde do trabalhador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(plano de contingência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plano de trabalho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). (item 5.16 letra b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B)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Ocorrendo afastamento definitivo do Presidente da CIPA, o empregador 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deverá indicar novo Presidente, preferencialmente entre os seus 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representantes titulares, no prazo de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             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( 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dois dias úteis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três dias úteis) (item 5.31.1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13 - 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Ocorrendo cessação de contrato de trabalho do Vice-Presidente d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CIPA, os empregados deverão escolher, dentre os seus representantes titulares,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o novo Vice-Presidente no prazo de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(   ) 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03 dias útei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(   ) 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01 dia úti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(X ) 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02 dias úteis (item5.31.2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14960" y="1981080"/>
            <a:ext cx="23144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657600"/>
            <a:ext cx="18860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8760" y="144360"/>
            <a:ext cx="942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NR5 - COMISSÃO INTERNA DE PREVENÇÃO DE ACIDENTES - CIP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09800" y="1066680"/>
            <a:ext cx="942948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4 – Cite no mínimo 03 atribuições da CIPA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ff9900"/>
              </a:buClr>
              <a:buFont typeface="Symbol" charset="2"/>
              <a:buChar char="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5 atribuições ( letra a a p) (item 5.18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5 – O que compete ao Vice-Presidente?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lvl="2" marL="380880" algn="just">
              <a:lnSpc>
                <a:spcPct val="90000"/>
              </a:lnSpc>
              <a:buClr>
                <a:srgbClr val="ff9900"/>
              </a:buClr>
              <a:buFont typeface="Symbol" charset="2"/>
              <a:buChar char="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Executar atribuições que lhe forem delegadas e substituir o Presidente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380880" algn="just"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os seus impedimentos eventuais ou nos seus afastamentos temporário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380880" algn="just"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item 5.20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380880" algn="just"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6 – Coloque V para verdadeiro e F para falso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ão atribuições do Secretário(a) da CIP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  V  )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companhar as reuniões da CIPA e redigir as atas apresentando-as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ra aprovação e assinatura dos membros presentes;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  F  )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laborar o calendário anual de reuniões da CIPA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V/F)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rticipar das reuniões da CIPA, discutindo os assuntos em pauta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 aprovando as recomendaçõe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  V )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eparar as correspondências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  V )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ovidenciar para que as atas sejam assinadas  por todos os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embros da CIPA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  F )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uidar para que todas as atribuições da CIPA previstas no item 5.16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a NR 5 sejam cumpridas durante a respectiva gestão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(item 5.22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380880" algn="just"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8760" y="144360"/>
            <a:ext cx="942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NR5 - COMISSÃO INTERNA DE PREVENÇÃO DE ACIDENTES - CIP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57160" y="1660680"/>
            <a:ext cx="9429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7 – Quando ocorrerá reuniões extraordinárias da CIPA? Assinale abaixo as alternativas corretas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    )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Quando assunto administrativo de urgência a ser discutido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Quando houver denúncia de situação de risco grave e iminente que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etermine aplicação de medidas corretivas de emergência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)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Quando ocorrer acidente  do trabalho grave ou fatal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)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Quando houver solicitação expressa de uma das representações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    )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Quando houver substituição de algum membro da CIPA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(item 5.27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8 – Após registrada a CIPA no órgão regional MTE, a mesma só poderá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r desativada antes do término do mandato dos seus membros,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quando houve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    )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mum acordo entre os empregados e empregado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)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ncerramento da atividade do estabelecimento (item 5.15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    )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ais de 2 anos sem acidentes no estabelecimento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8760" y="228600"/>
            <a:ext cx="942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NR5 - COMISSÃO INTERNA DE PREVENÇÃO DE ACIDENTES - CIP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57160" y="1916280"/>
            <a:ext cx="9429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9 –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s decisões da CIPA serão preferencialmente por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senso (item 5.28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  )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otaçã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  )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mposiçã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0 – Indicar à CIPA, ao SESMT e ao empregador situações de riscos e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presentar sugestões para melhoria das condições de trabalho, cabe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os empregados (item 5.18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8560" y="762120"/>
            <a:ext cx="942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NR5 - COMISSÃO INTERNA DE PREVENÇÃO DE ACIDENTES - CIP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19520" y="990720"/>
            <a:ext cx="4886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HISTÓRICO DA CIP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579680"/>
            <a:ext cx="10058400" cy="4672080"/>
          </a:xfrm>
          <a:prstGeom prst="rect">
            <a:avLst/>
          </a:prstGeom>
          <a:noFill/>
          <a:ln w="38160">
            <a:solidFill>
              <a:srgbClr val="ef09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pt-BR" sz="1800" spc="-1" strike="noStrike">
                <a:solidFill>
                  <a:srgbClr val="ff3300"/>
                </a:solidFill>
                <a:latin typeface="Arial"/>
              </a:rPr>
              <a:t>1923</a:t>
            </a:r>
            <a:r>
              <a:rPr b="1" i="1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666699"/>
                </a:solidFill>
                <a:latin typeface="Arial"/>
              </a:rPr>
              <a:t>~ Primeira forma de organização dos trabalhadores pela questão da saúd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pt-BR" sz="1800" spc="-1" strike="noStrike">
                <a:solidFill>
                  <a:srgbClr val="ff3300"/>
                </a:solidFill>
                <a:latin typeface="Arial"/>
              </a:rPr>
              <a:t>Década de 30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ff3300"/>
                </a:solidFill>
                <a:latin typeface="Arial"/>
              </a:rPr>
              <a:t>“ERA VARGAS”</a:t>
            </a:r>
            <a:r>
              <a:rPr b="1" lang="pt-BR" sz="1800" spc="-1" strike="noStrike">
                <a:solidFill>
                  <a:srgbClr val="666699"/>
                </a:solidFill>
                <a:latin typeface="Arial"/>
              </a:rPr>
              <a:t>~ melhor legislação trabalhista, inclusive de acidentes de                trabalho                                                                                           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pt-BR" sz="1800" spc="-1" strike="noStrike">
                <a:solidFill>
                  <a:srgbClr val="ff3300"/>
                </a:solidFill>
                <a:latin typeface="Arial"/>
              </a:rPr>
              <a:t>1934</a:t>
            </a:r>
            <a:r>
              <a:rPr b="0" lang="pt-B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666699"/>
                </a:solidFill>
                <a:latin typeface="Arial"/>
              </a:rPr>
              <a:t>~ A </a:t>
            </a:r>
            <a:r>
              <a:rPr b="1" lang="pt-BR" sz="1800" spc="-1" strike="noStrike">
                <a:solidFill>
                  <a:srgbClr val="666699"/>
                </a:solidFill>
                <a:latin typeface="Arial"/>
              </a:rPr>
              <a:t>CIPA</a:t>
            </a:r>
            <a:r>
              <a:rPr b="1" lang="pt-BR" sz="1800" spc="-1" strike="noStrike">
                <a:solidFill>
                  <a:srgbClr val="666699"/>
                </a:solidFill>
                <a:latin typeface="Arial"/>
              </a:rPr>
              <a:t> é criad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pt-BR" sz="1800" spc="-1" strike="noStrike">
                <a:solidFill>
                  <a:srgbClr val="ff3300"/>
                </a:solidFill>
                <a:latin typeface="Arial"/>
              </a:rPr>
              <a:t>1943</a:t>
            </a:r>
            <a:r>
              <a:rPr b="1" i="1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666699"/>
                </a:solidFill>
                <a:latin typeface="Arial"/>
              </a:rPr>
              <a:t>~ A </a:t>
            </a:r>
            <a:r>
              <a:rPr b="1" lang="pt-BR" sz="1800" spc="-1" strike="noStrike">
                <a:solidFill>
                  <a:srgbClr val="336699"/>
                </a:solidFill>
                <a:latin typeface="Arial"/>
              </a:rPr>
              <a:t>CLT </a:t>
            </a:r>
            <a:r>
              <a:rPr b="1" lang="pt-BR" sz="1800" spc="-1" strike="noStrike">
                <a:solidFill>
                  <a:srgbClr val="336699"/>
                </a:solidFill>
                <a:latin typeface="Arial"/>
              </a:rPr>
              <a:t> é criada pelo Dec. Lei  nº 5452 e a CIPA é nela incluída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pt-BR" sz="1800" spc="-1" strike="noStrike">
                <a:solidFill>
                  <a:srgbClr val="ff3300"/>
                </a:solidFill>
                <a:latin typeface="Arial"/>
              </a:rPr>
              <a:t>Década de 70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666699"/>
                </a:solidFill>
                <a:latin typeface="Arial"/>
              </a:rPr>
              <a:t>~ Brasil Campeão Mundial de Acidentes no Trabalh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pt-BR" sz="1800" spc="-1" strike="noStrike">
                <a:solidFill>
                  <a:srgbClr val="ff3300"/>
                </a:solidFill>
                <a:latin typeface="Arial"/>
              </a:rPr>
              <a:t>1975 </a:t>
            </a:r>
            <a:r>
              <a:rPr b="1" lang="pt-BR" sz="1800" spc="-1" strike="noStrike">
                <a:solidFill>
                  <a:srgbClr val="666699"/>
                </a:solidFill>
                <a:latin typeface="Arial"/>
              </a:rPr>
              <a:t>~ O.I.T. (Organização Internacional do Trabalho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6699"/>
                </a:solidFill>
                <a:latin typeface="Arial"/>
              </a:rPr>
              <a:t>Pressiona o Brasil pelo alto índice de acident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6699"/>
                </a:solidFill>
                <a:latin typeface="Arial"/>
              </a:rPr>
              <a:t>~ Campanha de Segurança - Tinha objetivo, diminuir os acidentes de trabalh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pt-BR" sz="1800" spc="-1" strike="noStrike">
                <a:solidFill>
                  <a:srgbClr val="ff3300"/>
                </a:solidFill>
                <a:latin typeface="Arial"/>
              </a:rPr>
              <a:t>1978 </a:t>
            </a:r>
            <a:r>
              <a:rPr b="1" lang="pt-BR" sz="1800" spc="-1" strike="noStrike">
                <a:solidFill>
                  <a:srgbClr val="666699"/>
                </a:solidFill>
                <a:latin typeface="Arial"/>
              </a:rPr>
              <a:t>~ A </a:t>
            </a:r>
            <a:r>
              <a:rPr b="1" lang="pt-BR" sz="1800" spc="-1" strike="noStrike">
                <a:solidFill>
                  <a:srgbClr val="666699"/>
                </a:solidFill>
                <a:latin typeface="Arial"/>
              </a:rPr>
              <a:t>CIPA</a:t>
            </a:r>
            <a:r>
              <a:rPr b="1" lang="pt-BR" sz="1800" spc="-1" strike="noStrike">
                <a:solidFill>
                  <a:srgbClr val="666699"/>
                </a:solidFill>
                <a:latin typeface="Arial"/>
              </a:rPr>
              <a:t> é regulamentada, juntamente com outras normas de segurança do trabalh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pt-BR" sz="1800" spc="-1" strike="noStrike">
                <a:solidFill>
                  <a:srgbClr val="ff3300"/>
                </a:solidFill>
                <a:latin typeface="Arial"/>
              </a:rPr>
              <a:t>1999</a:t>
            </a:r>
            <a:r>
              <a:rPr b="1" lang="pt-BR" sz="1800" spc="-1" strike="noStrike">
                <a:solidFill>
                  <a:srgbClr val="fc0433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666699"/>
                </a:solidFill>
                <a:latin typeface="Arial"/>
              </a:rPr>
              <a:t>~ Reformulação da CIPA pela Portaria Nº 8 - SSST/MTE, de 23.02.99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57040" y="2190600"/>
            <a:ext cx="1545840" cy="1009080"/>
            <a:chOff x="257040" y="2190600"/>
            <a:chExt cx="1545840" cy="100908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257040" y="2190600"/>
              <a:ext cx="1545840" cy="100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80320" y="2308680"/>
              <a:ext cx="77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CIPA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222280" y="1057680"/>
            <a:ext cx="1670760" cy="667800"/>
          </a:xfrm>
          <a:custGeom>
            <a:avLst/>
            <a:gdLst>
              <a:gd name="textAreaLeft" fmla="*/ 43200 w 1670760"/>
              <a:gd name="textAreaRight" fmla="*/ 1627560 w 16707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4023" h="21600">
                <a:moveTo>
                  <a:pt x="0" y="0"/>
                </a:moveTo>
                <a:lnTo>
                  <a:pt x="54023" y="0"/>
                </a:lnTo>
                <a:lnTo>
                  <a:pt x="54023" y="21600"/>
                </a:lnTo>
                <a:lnTo>
                  <a:pt x="0" y="21600"/>
                </a:lnTo>
                <a:close/>
              </a:path>
              <a:path fill="lightenLess" w="54023" h="21600">
                <a:moveTo>
                  <a:pt x="0" y="0"/>
                </a:moveTo>
                <a:lnTo>
                  <a:pt x="54023" y="0"/>
                </a:lnTo>
                <a:lnTo>
                  <a:pt x="52623" y="1400"/>
                </a:lnTo>
                <a:lnTo>
                  <a:pt x="1400" y="1400"/>
                </a:lnTo>
                <a:close/>
              </a:path>
              <a:path fill="darken" w="54023" h="21600">
                <a:moveTo>
                  <a:pt x="54023" y="0"/>
                </a:moveTo>
                <a:lnTo>
                  <a:pt x="54023" y="21600"/>
                </a:lnTo>
                <a:lnTo>
                  <a:pt x="52623" y="20200"/>
                </a:lnTo>
                <a:lnTo>
                  <a:pt x="52623" y="1400"/>
                </a:lnTo>
                <a:close/>
              </a:path>
              <a:path fill="darkenLess" w="54023" h="21600">
                <a:moveTo>
                  <a:pt x="54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3" y="20200"/>
                </a:lnTo>
                <a:close/>
              </a:path>
              <a:path fill="lighten" w="54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99"/>
                </a:solidFill>
                <a:latin typeface="Times New Roman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90720" y="5437440"/>
            <a:ext cx="3752640" cy="667800"/>
          </a:xfrm>
          <a:custGeom>
            <a:avLst/>
            <a:gdLst>
              <a:gd name="textAreaLeft" fmla="*/ 43200 w 3752640"/>
              <a:gd name="textAreaRight" fmla="*/ 3709440 w 375264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121325" h="21600">
                <a:moveTo>
                  <a:pt x="0" y="0"/>
                </a:moveTo>
                <a:lnTo>
                  <a:pt x="121325" y="0"/>
                </a:lnTo>
                <a:lnTo>
                  <a:pt x="121325" y="21600"/>
                </a:lnTo>
                <a:lnTo>
                  <a:pt x="0" y="21600"/>
                </a:lnTo>
                <a:close/>
              </a:path>
              <a:path fill="lightenLess" w="121325" h="21600">
                <a:moveTo>
                  <a:pt x="0" y="0"/>
                </a:moveTo>
                <a:lnTo>
                  <a:pt x="121325" y="0"/>
                </a:lnTo>
                <a:lnTo>
                  <a:pt x="119925" y="1400"/>
                </a:lnTo>
                <a:lnTo>
                  <a:pt x="1400" y="1400"/>
                </a:lnTo>
                <a:close/>
              </a:path>
              <a:path fill="darken" w="121325" h="21600">
                <a:moveTo>
                  <a:pt x="121325" y="0"/>
                </a:moveTo>
                <a:lnTo>
                  <a:pt x="121325" y="21600"/>
                </a:lnTo>
                <a:lnTo>
                  <a:pt x="119925" y="20200"/>
                </a:lnTo>
                <a:lnTo>
                  <a:pt x="119925" y="1400"/>
                </a:lnTo>
                <a:close/>
              </a:path>
              <a:path fill="darkenLess" w="121325" h="21600">
                <a:moveTo>
                  <a:pt x="1213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25" y="20200"/>
                </a:lnTo>
                <a:close/>
              </a:path>
              <a:path fill="lighten" w="1213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99"/>
                </a:solidFill>
                <a:latin typeface="Times New Roman"/>
              </a:rPr>
              <a:t>Atribuições da CIP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7028280" y="1094040"/>
            <a:ext cx="2958480" cy="667800"/>
          </a:xfrm>
          <a:custGeom>
            <a:avLst/>
            <a:gdLst>
              <a:gd name="textAreaLeft" fmla="*/ 43200 w 2958480"/>
              <a:gd name="textAreaRight" fmla="*/ 2915280 w 29584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95652" h="21600">
                <a:moveTo>
                  <a:pt x="0" y="0"/>
                </a:moveTo>
                <a:lnTo>
                  <a:pt x="95652" y="0"/>
                </a:lnTo>
                <a:lnTo>
                  <a:pt x="95652" y="21600"/>
                </a:lnTo>
                <a:lnTo>
                  <a:pt x="0" y="21600"/>
                </a:lnTo>
                <a:close/>
              </a:path>
              <a:path fill="lightenLess" w="95652" h="21600">
                <a:moveTo>
                  <a:pt x="0" y="0"/>
                </a:moveTo>
                <a:lnTo>
                  <a:pt x="95652" y="0"/>
                </a:lnTo>
                <a:lnTo>
                  <a:pt x="94252" y="1400"/>
                </a:lnTo>
                <a:lnTo>
                  <a:pt x="1400" y="1400"/>
                </a:lnTo>
                <a:close/>
              </a:path>
              <a:path fill="darken" w="95652" h="21600">
                <a:moveTo>
                  <a:pt x="95652" y="0"/>
                </a:moveTo>
                <a:lnTo>
                  <a:pt x="95652" y="21600"/>
                </a:lnTo>
                <a:lnTo>
                  <a:pt x="94252" y="20200"/>
                </a:lnTo>
                <a:lnTo>
                  <a:pt x="94252" y="1400"/>
                </a:lnTo>
                <a:close/>
              </a:path>
              <a:path fill="darkenLess" w="95652" h="21600">
                <a:moveTo>
                  <a:pt x="956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52" y="20200"/>
                </a:lnTo>
                <a:close/>
              </a:path>
              <a:path fill="lighten" w="956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99"/>
                </a:solidFill>
                <a:latin typeface="Times New Roman"/>
              </a:rPr>
              <a:t>Funcionamen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1760" y="2161080"/>
            <a:ext cx="2393280" cy="667800"/>
          </a:xfrm>
          <a:custGeom>
            <a:avLst/>
            <a:gdLst>
              <a:gd name="textAreaLeft" fmla="*/ 43200 w 2393280"/>
              <a:gd name="textAreaRight" fmla="*/ 2350080 w 23932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77381" h="21600">
                <a:moveTo>
                  <a:pt x="0" y="0"/>
                </a:moveTo>
                <a:lnTo>
                  <a:pt x="77381" y="0"/>
                </a:lnTo>
                <a:lnTo>
                  <a:pt x="77381" y="21600"/>
                </a:lnTo>
                <a:lnTo>
                  <a:pt x="0" y="21600"/>
                </a:lnTo>
                <a:close/>
              </a:path>
              <a:path fill="lightenLess" w="77381" h="21600">
                <a:moveTo>
                  <a:pt x="0" y="0"/>
                </a:moveTo>
                <a:lnTo>
                  <a:pt x="77381" y="0"/>
                </a:lnTo>
                <a:lnTo>
                  <a:pt x="75981" y="1400"/>
                </a:lnTo>
                <a:lnTo>
                  <a:pt x="1400" y="1400"/>
                </a:lnTo>
                <a:close/>
              </a:path>
              <a:path fill="darken" w="77381" h="21600">
                <a:moveTo>
                  <a:pt x="77381" y="0"/>
                </a:moveTo>
                <a:lnTo>
                  <a:pt x="77381" y="21600"/>
                </a:lnTo>
                <a:lnTo>
                  <a:pt x="75981" y="20200"/>
                </a:lnTo>
                <a:lnTo>
                  <a:pt x="75981" y="1400"/>
                </a:lnTo>
                <a:close/>
              </a:path>
              <a:path fill="darkenLess" w="77381" h="21600">
                <a:moveTo>
                  <a:pt x="77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981" y="20200"/>
                </a:lnTo>
                <a:close/>
              </a:path>
              <a:path fill="lighten" w="77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99"/>
                </a:solidFill>
                <a:latin typeface="Times New Roman"/>
              </a:rPr>
              <a:t>Constituiçã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59280" y="3608640"/>
            <a:ext cx="2418840" cy="667800"/>
          </a:xfrm>
          <a:custGeom>
            <a:avLst/>
            <a:gdLst>
              <a:gd name="textAreaLeft" fmla="*/ 43200 w 2418840"/>
              <a:gd name="textAreaRight" fmla="*/ 2375640 w 241884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78207" h="21600">
                <a:moveTo>
                  <a:pt x="0" y="0"/>
                </a:moveTo>
                <a:lnTo>
                  <a:pt x="78207" y="0"/>
                </a:lnTo>
                <a:lnTo>
                  <a:pt x="78207" y="21600"/>
                </a:lnTo>
                <a:lnTo>
                  <a:pt x="0" y="21600"/>
                </a:lnTo>
                <a:close/>
              </a:path>
              <a:path fill="lightenLess" w="78207" h="21600">
                <a:moveTo>
                  <a:pt x="0" y="0"/>
                </a:moveTo>
                <a:lnTo>
                  <a:pt x="78207" y="0"/>
                </a:lnTo>
                <a:lnTo>
                  <a:pt x="76807" y="1400"/>
                </a:lnTo>
                <a:lnTo>
                  <a:pt x="1400" y="1400"/>
                </a:lnTo>
                <a:close/>
              </a:path>
              <a:path fill="darken" w="78207" h="21600">
                <a:moveTo>
                  <a:pt x="78207" y="0"/>
                </a:moveTo>
                <a:lnTo>
                  <a:pt x="78207" y="21600"/>
                </a:lnTo>
                <a:lnTo>
                  <a:pt x="76807" y="20200"/>
                </a:lnTo>
                <a:lnTo>
                  <a:pt x="76807" y="1400"/>
                </a:lnTo>
                <a:close/>
              </a:path>
              <a:path fill="darkenLess" w="78207" h="21600">
                <a:moveTo>
                  <a:pt x="782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807" y="20200"/>
                </a:lnTo>
                <a:close/>
              </a:path>
              <a:path fill="lighten" w="782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99"/>
                </a:solidFill>
                <a:latin typeface="Times New Roman"/>
              </a:rPr>
              <a:t>Organizaçã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7015680" y="2922840"/>
            <a:ext cx="2439000" cy="667800"/>
          </a:xfrm>
          <a:custGeom>
            <a:avLst/>
            <a:gdLst>
              <a:gd name="textAreaLeft" fmla="*/ 43200 w 2439000"/>
              <a:gd name="textAreaRight" fmla="*/ 2395800 w 24390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78859" h="21600">
                <a:moveTo>
                  <a:pt x="0" y="0"/>
                </a:moveTo>
                <a:lnTo>
                  <a:pt x="78859" y="0"/>
                </a:lnTo>
                <a:lnTo>
                  <a:pt x="78859" y="21600"/>
                </a:lnTo>
                <a:lnTo>
                  <a:pt x="0" y="21600"/>
                </a:lnTo>
                <a:close/>
              </a:path>
              <a:path fill="lightenLess" w="78859" h="21600">
                <a:moveTo>
                  <a:pt x="0" y="0"/>
                </a:moveTo>
                <a:lnTo>
                  <a:pt x="78859" y="0"/>
                </a:lnTo>
                <a:lnTo>
                  <a:pt x="77459" y="1400"/>
                </a:lnTo>
                <a:lnTo>
                  <a:pt x="1400" y="1400"/>
                </a:lnTo>
                <a:close/>
              </a:path>
              <a:path fill="darken" w="78859" h="21600">
                <a:moveTo>
                  <a:pt x="78859" y="0"/>
                </a:moveTo>
                <a:lnTo>
                  <a:pt x="78859" y="21600"/>
                </a:lnTo>
                <a:lnTo>
                  <a:pt x="77459" y="20200"/>
                </a:lnTo>
                <a:lnTo>
                  <a:pt x="77459" y="1400"/>
                </a:lnTo>
                <a:close/>
              </a:path>
              <a:path fill="darkenLess" w="78859" h="21600">
                <a:moveTo>
                  <a:pt x="78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459" y="20200"/>
                </a:lnTo>
                <a:close/>
              </a:path>
              <a:path fill="lighten" w="78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99"/>
                </a:solidFill>
                <a:latin typeface="Times New Roman"/>
              </a:rPr>
              <a:t>Treinamen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6853320" y="4827960"/>
            <a:ext cx="3335040" cy="667800"/>
          </a:xfrm>
          <a:custGeom>
            <a:avLst/>
            <a:gdLst>
              <a:gd name="textAreaLeft" fmla="*/ 43200 w 3335040"/>
              <a:gd name="textAreaRight" fmla="*/ 3291840 w 333504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107825" h="21600">
                <a:moveTo>
                  <a:pt x="0" y="0"/>
                </a:moveTo>
                <a:lnTo>
                  <a:pt x="107825" y="0"/>
                </a:lnTo>
                <a:lnTo>
                  <a:pt x="107825" y="21600"/>
                </a:lnTo>
                <a:lnTo>
                  <a:pt x="0" y="21600"/>
                </a:lnTo>
                <a:close/>
              </a:path>
              <a:path fill="lightenLess" w="107825" h="21600">
                <a:moveTo>
                  <a:pt x="0" y="0"/>
                </a:moveTo>
                <a:lnTo>
                  <a:pt x="107825" y="0"/>
                </a:lnTo>
                <a:lnTo>
                  <a:pt x="106425" y="1400"/>
                </a:lnTo>
                <a:lnTo>
                  <a:pt x="1400" y="1400"/>
                </a:lnTo>
                <a:close/>
              </a:path>
              <a:path fill="darken" w="107825" h="21600">
                <a:moveTo>
                  <a:pt x="107825" y="0"/>
                </a:moveTo>
                <a:lnTo>
                  <a:pt x="107825" y="21600"/>
                </a:lnTo>
                <a:lnTo>
                  <a:pt x="106425" y="20200"/>
                </a:lnTo>
                <a:lnTo>
                  <a:pt x="106425" y="1400"/>
                </a:lnTo>
                <a:close/>
              </a:path>
              <a:path fill="darkenLess" w="107825" h="21600">
                <a:moveTo>
                  <a:pt x="107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5" y="20200"/>
                </a:lnTo>
                <a:close/>
              </a:path>
              <a:path fill="lighten" w="107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99"/>
                </a:solidFill>
                <a:latin typeface="Times New Roman"/>
              </a:rPr>
              <a:t>Processo Eleitor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067360" y="952560"/>
            <a:ext cx="171432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 flipH="1" rot="10800000">
            <a:off x="171360" y="3497400"/>
            <a:ext cx="1714680" cy="1226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68280" y="901800"/>
            <a:ext cx="1155600" cy="1155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4981680" y="2811600"/>
            <a:ext cx="1800000" cy="107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5195880" y="4484520"/>
          <a:ext cx="1509840" cy="925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95880" y="4484520"/>
                    <a:ext cx="15098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11"/>
          <a:stretch/>
        </p:blipFill>
        <p:spPr>
          <a:xfrm>
            <a:off x="382680" y="4956120"/>
            <a:ext cx="134280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86200" y="396252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686040" y="76104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4800"/>
                </a:solidFill>
                <a:latin typeface="Times New Roman"/>
              </a:rPr>
              <a:t>Objetivo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2600" y="1582560"/>
            <a:ext cx="8985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5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A Comissão  Interna de Prevenção de Acidentes - CIPA -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tem como objetivo a prevenção de acidente e doença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decorrentes do trabalho, de modo a tornar compatível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permanentemente o trabalho com a preservação da vid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e a promoção do trabalhado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78520" y="684720"/>
            <a:ext cx="37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4800"/>
                </a:solidFill>
                <a:latin typeface="Times New Roman"/>
              </a:rPr>
              <a:t>Constituição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551960"/>
            <a:ext cx="96775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evem constituir CIPA por estabelecimento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mpresas  privadas, públicas, sociedade de economia mista, órgãos da administração direta e indireta, instituições beneficentes, associações recreativas, cooperativas e outras instituições que admitam trabalhadores como empregados regidos pela CL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Interação das CIPA nas empresas com mais de um     estabelecimento no mesmo municípi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e acordo com dimensionamento do Quadro I  da NR- 5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124840" y="914400"/>
            <a:ext cx="1933200" cy="1203120"/>
            <a:chOff x="8124840" y="914400"/>
            <a:chExt cx="1933200" cy="120312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8124840" y="914400"/>
              <a:ext cx="1933200" cy="120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626320" y="1092240"/>
              <a:ext cx="77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CIPA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036680" y="761040"/>
            <a:ext cx="31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4800"/>
                </a:solidFill>
                <a:latin typeface="Times New Roman"/>
              </a:rPr>
              <a:t>Organiz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643040"/>
            <a:ext cx="9772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aridade na composição  - Conforme Quadro I da NR 05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Não mais em função do grau de risc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presentante dos empregados através do voto, observando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 ordem decrescent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esignado para o estabelecimento que não se enquadrar n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Quadro I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uração do mandato de 1 ano permitida uma reeleição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ara os representantes dos empregad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Vedada dispensa arbitrária ou sem justa causa ao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membros eleitos desde o registro da candidatura até um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no após o final do mandat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 flipH="1" rot="10800000">
            <a:off x="561960" y="289800"/>
            <a:ext cx="17240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732120" y="684720"/>
            <a:ext cx="31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4800"/>
                </a:solidFill>
                <a:latin typeface="Times New Roman"/>
              </a:rPr>
              <a:t>Organiz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3040" y="1215360"/>
            <a:ext cx="97725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Garantia aos membros de CIPA de condições para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desempenho do cargo e vedação da transferência do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membro, ressalvado disposições em artigo 469 da CL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Garantia de representação necessária para discussão e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encaminhamento dos assuntos de CIPA aos representant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do empregado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Presidente – escolhido pelo Empregado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Vice-Presidente – escolhido pelos representantes  eleitos,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dentre seus titulare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Secretário(a) e seu substituto – indicados de comum acordo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com os membros da CIP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flipH="1" rot="10800000">
            <a:off x="380880" y="227880"/>
            <a:ext cx="17240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1000" y="761040"/>
            <a:ext cx="31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4800"/>
                </a:solidFill>
                <a:latin typeface="Times New Roman"/>
              </a:rPr>
              <a:t>Organiz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6720" y="1475280"/>
            <a:ext cx="977256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Posse  dos membros e Designados – 1ºdia útil após o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término do mandato anterior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Protocolo em 10 dias das Atas de Eleição, Posse 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Calendário Anual das Reuniões Ordinária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Vedada a redução do número de membros de CIPA após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protocolo, bem como sua desativação antes do término do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mandato, exceto caso encerramento atividades do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estabeleciment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Redução ou desativação da CIP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marL="95400"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cc"/>
                </a:solidFill>
                <a:latin typeface="Times New Roman"/>
              </a:rPr>
              <a:t>Renúncia do cargo de membro de CIP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 flipH="1" rot="10800000">
            <a:off x="380880" y="227880"/>
            <a:ext cx="17240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6T12:02:56Z</dcterms:created>
  <dc:creator/>
  <dc:description/>
  <dc:language>en-US</dc:language>
  <cp:lastModifiedBy>CEMIG</cp:lastModifiedBy>
  <cp:lastPrinted>1999-10-21T16:35:49Z</cp:lastPrinted>
  <dcterms:modified xsi:type="dcterms:W3CDTF">2007-07-12T10:05:34Z</dcterms:modified>
  <cp:revision>201</cp:revision>
  <dc:subject/>
  <dc:title>Apresentação do PowerPoint</dc:title>
</cp:coreProperties>
</file>